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 id="328" r:id="rId83"/>
    <p:sldId id="329" r:id="rId84"/>
    <p:sldId id="330" r:id="rId85"/>
    <p:sldId id="331" r:id="rId86"/>
    <p:sldId id="332" r:id="rId87"/>
    <p:sldId id="333" r:id="rId88"/>
    <p:sldId id="334" r:id="rId89"/>
    <p:sldId id="335" r:id="rId90"/>
    <p:sldId id="336" r:id="rId91"/>
    <p:sldId id="337" r:id="rId92"/>
    <p:sldId id="338" r:id="rId93"/>
    <p:sldId id="339" r:id="rId94"/>
    <p:sldId id="340" r:id="rId95"/>
    <p:sldId id="341" r:id="rId96"/>
    <p:sldId id="342" r:id="rId97"/>
    <p:sldId id="343" r:id="rId98"/>
    <p:sldId id="344" r:id="rId99"/>
    <p:sldId id="345" r:id="rId100"/>
    <p:sldId id="346" r:id="rId101"/>
    <p:sldId id="347" r:id="rId102"/>
    <p:sldId id="348" r:id="rId103"/>
    <p:sldId id="349" r:id="rId104"/>
    <p:sldId id="350" r:id="rId105"/>
    <p:sldId id="351" r:id="rId106"/>
    <p:sldId id="352" r:id="rId107"/>
    <p:sldId id="353" r:id="rId108"/>
    <p:sldId id="354" r:id="rId109"/>
    <p:sldId id="355" r:id="rId110"/>
    <p:sldId id="356" r:id="rId111"/>
    <p:sldId id="357" r:id="rId112"/>
    <p:sldId id="358" r:id="rId113"/>
    <p:sldId id="359" r:id="rId114"/>
    <p:sldId id="360" r:id="rId115"/>
    <p:sldId id="361" r:id="rId116"/>
    <p:sldId id="362" r:id="rId117"/>
    <p:sldId id="363" r:id="rId118"/>
    <p:sldId id="364" r:id="rId11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slide" Target="slides/slide73.xml"/><Relationship Id="rId84" Type="http://schemas.openxmlformats.org/officeDocument/2006/relationships/slide" Target="slides/slide74.xml"/><Relationship Id="rId85" Type="http://schemas.openxmlformats.org/officeDocument/2006/relationships/slide" Target="slides/slide75.xml"/><Relationship Id="rId86" Type="http://schemas.openxmlformats.org/officeDocument/2006/relationships/slide" Target="slides/slide76.xml"/><Relationship Id="rId87" Type="http://schemas.openxmlformats.org/officeDocument/2006/relationships/slide" Target="slides/slide77.xml"/><Relationship Id="rId88" Type="http://schemas.openxmlformats.org/officeDocument/2006/relationships/slide" Target="slides/slide78.xml"/><Relationship Id="rId89" Type="http://schemas.openxmlformats.org/officeDocument/2006/relationships/slide" Target="slides/slide79.xml"/><Relationship Id="rId90" Type="http://schemas.openxmlformats.org/officeDocument/2006/relationships/slide" Target="slides/slide80.xml"/><Relationship Id="rId91" Type="http://schemas.openxmlformats.org/officeDocument/2006/relationships/slide" Target="slides/slide81.xml"/><Relationship Id="rId92" Type="http://schemas.openxmlformats.org/officeDocument/2006/relationships/slide" Target="slides/slide82.xml"/><Relationship Id="rId93" Type="http://schemas.openxmlformats.org/officeDocument/2006/relationships/slide" Target="slides/slide83.xml"/><Relationship Id="rId94" Type="http://schemas.openxmlformats.org/officeDocument/2006/relationships/slide" Target="slides/slide84.xml"/><Relationship Id="rId95" Type="http://schemas.openxmlformats.org/officeDocument/2006/relationships/slide" Target="slides/slide85.xml"/><Relationship Id="rId96" Type="http://schemas.openxmlformats.org/officeDocument/2006/relationships/slide" Target="slides/slide86.xml"/><Relationship Id="rId97" Type="http://schemas.openxmlformats.org/officeDocument/2006/relationships/slide" Target="slides/slide87.xml"/><Relationship Id="rId98" Type="http://schemas.openxmlformats.org/officeDocument/2006/relationships/slide" Target="slides/slide88.xml"/><Relationship Id="rId99" Type="http://schemas.openxmlformats.org/officeDocument/2006/relationships/slide" Target="slides/slide89.xml"/><Relationship Id="rId100" Type="http://schemas.openxmlformats.org/officeDocument/2006/relationships/slide" Target="slides/slide90.xml"/><Relationship Id="rId101" Type="http://schemas.openxmlformats.org/officeDocument/2006/relationships/slide" Target="slides/slide91.xml"/><Relationship Id="rId102" Type="http://schemas.openxmlformats.org/officeDocument/2006/relationships/slide" Target="slides/slide92.xml"/><Relationship Id="rId103" Type="http://schemas.openxmlformats.org/officeDocument/2006/relationships/slide" Target="slides/slide93.xml"/><Relationship Id="rId104" Type="http://schemas.openxmlformats.org/officeDocument/2006/relationships/slide" Target="slides/slide94.xml"/><Relationship Id="rId105" Type="http://schemas.openxmlformats.org/officeDocument/2006/relationships/slide" Target="slides/slide95.xml"/><Relationship Id="rId106" Type="http://schemas.openxmlformats.org/officeDocument/2006/relationships/slide" Target="slides/slide96.xml"/><Relationship Id="rId107" Type="http://schemas.openxmlformats.org/officeDocument/2006/relationships/slide" Target="slides/slide97.xml"/><Relationship Id="rId108" Type="http://schemas.openxmlformats.org/officeDocument/2006/relationships/slide" Target="slides/slide98.xml"/><Relationship Id="rId109" Type="http://schemas.openxmlformats.org/officeDocument/2006/relationships/slide" Target="slides/slide99.xml"/><Relationship Id="rId110" Type="http://schemas.openxmlformats.org/officeDocument/2006/relationships/slide" Target="slides/slide100.xml"/><Relationship Id="rId111" Type="http://schemas.openxmlformats.org/officeDocument/2006/relationships/slide" Target="slides/slide101.xml"/><Relationship Id="rId112" Type="http://schemas.openxmlformats.org/officeDocument/2006/relationships/slide" Target="slides/slide102.xml"/><Relationship Id="rId113" Type="http://schemas.openxmlformats.org/officeDocument/2006/relationships/slide" Target="slides/slide103.xml"/><Relationship Id="rId114" Type="http://schemas.openxmlformats.org/officeDocument/2006/relationships/slide" Target="slides/slide104.xml"/><Relationship Id="rId115" Type="http://schemas.openxmlformats.org/officeDocument/2006/relationships/slide" Target="slides/slide105.xml"/><Relationship Id="rId116" Type="http://schemas.openxmlformats.org/officeDocument/2006/relationships/slide" Target="slides/slide106.xml"/><Relationship Id="rId117" Type="http://schemas.openxmlformats.org/officeDocument/2006/relationships/slide" Target="slides/slide107.xml"/><Relationship Id="rId118" Type="http://schemas.openxmlformats.org/officeDocument/2006/relationships/slide" Target="slides/slide108.xml"/><Relationship Id="rId119" Type="http://schemas.openxmlformats.org/officeDocument/2006/relationships/slide" Target="slides/slide109.xml"/><Relationship Id="rId1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9430F-79B8-4ED3-A42B-B0E029A4C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1F02B-4971-441F-9D94-8E84F7938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0FB8C6-B676-41F0-9148-765987F270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721A51-7FB7-40DE-8140-5BA1641B18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882524-77B9-47B8-B274-D74DED592D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2F160A-8DF4-4017-8BE4-4300EF1846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B990AB-3C76-4283-8DB6-E41DC90C13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5D40F9-E8CE-4278-9940-EA228927C0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2E46A0-BBC2-4E5B-95C7-851D2FE607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8CC245-99BE-44A5-BCE4-A4B0F2E422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C40CAE-3035-47BD-9E85-B246C579A42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C01D6-5A81-46C0-B785-F7C7B1E77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F47D7-917A-4F33-BDB2-395CA8BE1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019C9F-E7DA-4A77-8744-F20FF56078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38BB8-F022-4F37-BBED-5FC243BF4C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19487-8959-4F0F-985A-466B335A2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B8A453-A19F-451E-9F78-688B9EC14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A33E5-5C70-4B29-96E7-0B033E3C8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7BF0F-0129-459A-BE87-7EA23C9EA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039F7-473D-458C-B31A-3E0235C20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4CFB5-D2ED-4704-95A5-E196CED3A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E8695-A367-4559-8B67-EF0622764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19071-E4D4-4997-9845-E62102EBF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99050-12C0-4EAE-99EB-38D8ADB73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515166-0D20-4FB3-BF06-25F46FBC2B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245B1D-9152-4208-8061-A9C325A122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440A19-CCBD-4C0A-A823-AD965A118C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7F2A5C-289E-4AF0-B05E-D89FE53F35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397FD9-ABB1-4FED-9042-9EF707AA26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1F9186-FFD1-4E9B-8893-208180143D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2F4589-9DA5-473F-83BA-863666242D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E5BA0-9711-4982-AC2E-D0809FD38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9BF667-3B43-41C7-A0B4-B97690BDB4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F817A7-D683-481B-84DA-AD40323029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C9E8CB-A9DD-494A-B3D4-32972604BD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5CADC5-C1D2-4274-8D12-9B121E015A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912D1E-4348-4400-8413-47899C6318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71CD31-033C-4FAC-9893-87C1A6404B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112F0C-B8F7-44BC-9734-433A9BEB0B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E9014D-E6A6-440E-AB57-FCA5ED69AE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31F309-DB30-43D8-A9EC-2EE28117EC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491EC5-CA77-4882-A5A2-AA454C95B2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78964-D39B-4E46-8277-E38BE4728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604B6D-2DF1-40D6-BE0C-A69CF73BBE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7CF90B-003A-4332-968E-EC26A7E87B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BEA065-09EE-4338-B42F-AF2AF82CDB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DC9D03-BEB2-4B59-BF62-512C3BA9E1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97F719-483A-437A-A441-4BE8DFDFD8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CAA9F9-BC0B-4F60-AF4A-19DAF80192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C9AF6A-7E8A-47A4-AA41-696A2CABBE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7F2F17-28A8-40EF-A8C2-FCE7D4150F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6CA0A8-E388-41CC-93E1-D3922004CF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DB90E6-1847-4FFA-A99A-A78ADE697B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17DDA-1A0D-4BB7-99AA-FB55F85B8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06146F-5B32-4ACE-8F93-83C03B8E94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DF80A9-85F4-4DAA-AF5D-A4558ADA56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8770FE-21C9-4E98-BBA5-038F0F2901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CBC3B5-34AE-4302-8877-F890F50367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01133C-2CAD-4F1A-BE33-03CBE20523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50CA90-3974-4858-A468-6E14363255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3FEAE5-CFA6-4489-81D6-2D9470E2A2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29FBB9-2E4F-4A89-AB29-99CDD29E4B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0B4D1C-C71A-4667-A758-5B290D73EA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24368C-1836-4715-8783-B403EC0B58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76F6C-FF69-4712-A319-54CEE8CDF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A73871-92DC-4721-8533-4555868418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6DBDC9-349A-480D-8FE8-589364D11D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D9E79D-9B21-4CDB-A024-4F0C0119D5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501ED3-C80B-4A12-9748-4FF5DF1340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9066BA-7AA3-4257-A66C-DD72CE81E9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D5E8BF-26CE-4D95-BA15-FE8A4A82D5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1426E9-889E-4334-B2D5-4D1CF23C0A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9FDB2A-9B7C-46D3-A62E-C3D37DEA0C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6849A3-3B67-4EAD-9174-D4EA3A81A6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F2A9A6-C835-473F-86AD-A0A3FFF338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82474-5C7C-41F3-96B9-6BD4C82CD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25D485-3A0C-4B9B-93CD-C30574A14F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FD9591-C70B-41C6-A086-5639921B00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021A69-655A-4E0F-9757-2338C67FB4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03EF31-FFE2-4DF9-A32B-F549AF99C2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B9088C-C366-43B7-BC21-4ABA3B056A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0D1BF0-CB02-48B2-A050-401B175B10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C9A6BE-7C03-42FB-B899-E5E4D87325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2CEA80-A2D2-4435-A37C-5B83C4C626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DA9AC6-27C9-4FA9-A2CE-E453D66A8B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32F55F-19A4-4086-B0AC-ED9CDE7971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36DEE-0CB8-4042-9BD6-C5456F869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A23F96-C538-4D0A-AB3C-DE3721DEC7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ED712E-C574-4BB2-970B-B2F5605260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124962-11BD-43E0-807D-D2A4D063EE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1DC512-2B7D-4624-B269-63DBAD36A7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F46E74-3EA7-4811-9F50-0F7041897A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C70D6F-1428-4F92-A223-4065A895A3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CAB334-A112-46FB-8D10-E6E1C09DC0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A36CF9-71ED-4A44-99F3-DD83A3CAFC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9ECF6B-A6B9-49AC-9840-1340CB9EF9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6340B2-137C-4B18-AB3F-4A1637A86A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E3C78-0DD9-4A3B-8580-53DFB00F0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BE6BB4-770C-4CF7-AC15-EA8A323A06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1E6943-BBA1-4921-A483-86E9F87B9B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2C5654-AD0D-4757-BCE1-9480513153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2066BB-CF2C-4625-AD58-09F3825C83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7569E2-791D-49C4-BBBE-22DF9A9E66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6DC21E-BF3D-43C1-9809-C1986D1E42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D5ED4F-5FAB-4576-8CF4-A46F5FF396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0F2637-327C-41F5-8FA9-A15F655A96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2DA728-3186-4749-BF24-854F9F08AD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A79DE7-77AD-4E1B-AE91-3BB7A70D0AE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CE616-82BB-43CB-AD10-AD1B348F7528}"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上海市食品药品监督管理局</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C37E2-80E6-4133-8610-1AD63E3FCBF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3" descr="PPT-2"/>
          <p:cNvPicPr/>
          <p:nvPr/>
        </p:nvPicPr>
        <p:blipFill>
          <a:blip r:embed="rId2"/>
          <a:stretch/>
        </p:blipFill>
        <p:spPr>
          <a:xfrm>
            <a:off x="0" y="0"/>
            <a:ext cx="12192120" cy="3106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3" descr="PPT-2"/>
          <p:cNvPicPr/>
          <p:nvPr/>
        </p:nvPicPr>
        <p:blipFill>
          <a:blip r:embed="rId2"/>
          <a:stretch/>
        </p:blipFill>
        <p:spPr>
          <a:xfrm>
            <a:off x="0" y="0"/>
            <a:ext cx="12192120" cy="3106800"/>
          </a:xfrm>
          <a:prstGeom prst="rect">
            <a:avLst/>
          </a:prstGeom>
          <a:ln w="0">
            <a:noFill/>
          </a:ln>
        </p:spPr>
      </p:pic>
      <p:pic>
        <p:nvPicPr>
          <p:cNvPr id="43" name="Picture 12" descr="PPT-4-11"/>
          <p:cNvPicPr/>
          <p:nvPr/>
        </p:nvPicPr>
        <p:blipFill>
          <a:blip r:embed="rId3"/>
          <a:stretch/>
        </p:blipFill>
        <p:spPr>
          <a:xfrm>
            <a:off x="0" y="6456240"/>
            <a:ext cx="12192120" cy="401760"/>
          </a:xfrm>
          <a:prstGeom prst="rect">
            <a:avLst/>
          </a:prstGeom>
          <a:ln w="0">
            <a:noFill/>
          </a:ln>
        </p:spPr>
      </p:pic>
      <p:sp>
        <p:nvSpPr>
          <p:cNvPr id="44" name="页脚占位符 1"/>
          <p:cNvSpPr/>
          <p:nvPr/>
        </p:nvSpPr>
        <p:spPr>
          <a:xfrm>
            <a:off x="92962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                                         </a:t>
            </a:r>
            <a:r>
              <a:rPr b="1" lang="en-US" sz="1400" spc="-1" strike="noStrike">
                <a:solidFill>
                  <a:srgbClr val="ffffff"/>
                </a:solidFill>
                <a:latin typeface="微软雅黑"/>
                <a:ea typeface="微软雅黑"/>
              </a:rPr>
              <a:t>1/2</a:t>
            </a:r>
            <a:endParaRPr b="0" lang="en-US" sz="1400" spc="-1" strike="noStrike">
              <a:solidFill>
                <a:srgbClr val="000000"/>
              </a:solidFill>
              <a:latin typeface="Calibri"/>
            </a:endParaRPr>
          </a:p>
        </p:txBody>
      </p:sp>
      <p:pic>
        <p:nvPicPr>
          <p:cNvPr id="45" name="Picture 6" descr="PPT-2-4"/>
          <p:cNvPicPr/>
          <p:nvPr/>
        </p:nvPicPr>
        <p:blipFill>
          <a:blip r:embed="rId4"/>
          <a:stretch/>
        </p:blipFill>
        <p:spPr>
          <a:xfrm>
            <a:off x="3522600" y="646200"/>
            <a:ext cx="8877240" cy="433440"/>
          </a:xfrm>
          <a:prstGeom prst="rect">
            <a:avLst/>
          </a:prstGeom>
          <a:ln w="0">
            <a:noFill/>
          </a:ln>
        </p:spPr>
      </p:pic>
      <p:pic>
        <p:nvPicPr>
          <p:cNvPr id="46" name="图片 2" descr=""/>
          <p:cNvPicPr/>
          <p:nvPr/>
        </p:nvPicPr>
        <p:blipFill>
          <a:blip r:embed="rId5"/>
          <a:stretch/>
        </p:blipFill>
        <p:spPr>
          <a:xfrm>
            <a:off x="171360" y="396720"/>
            <a:ext cx="3459240" cy="465120"/>
          </a:xfrm>
          <a:prstGeom prst="rect">
            <a:avLst/>
          </a:prstGeom>
          <a:ln w="0">
            <a:noFill/>
          </a:ln>
        </p:spPr>
      </p:pic>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 name="PlaceHolder 3"/>
          <p:cNvSpPr>
            <a:spLocks noGrp="1"/>
          </p:cNvSpPr>
          <p:nvPr>
            <p:ph type="dt" idx="4"/>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09604-C6B2-44D2-8AF3-1527CF349811}"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4647960" y="6356520"/>
            <a:ext cx="2895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上海市食品药品监督管理局</a:t>
            </a:r>
            <a:endParaRPr b="0" lang="en-US" sz="1200" spc="-1" strike="noStrike">
              <a:solidFill>
                <a:srgbClr val="000000"/>
              </a:solidFill>
              <a:latin typeface="Times New Roman"/>
            </a:endParaRPr>
          </a:p>
        </p:txBody>
      </p:sp>
      <p:sp>
        <p:nvSpPr>
          <p:cNvPr id="51" name="PlaceHolder 5"/>
          <p:cNvSpPr>
            <a:spLocks noGrp="1"/>
          </p:cNvSpPr>
          <p:nvPr>
            <p:ph type="sldNum" idx="6"/>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2A1CB-F821-408B-8897-9FBED13B658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3" descr="PPT-2"/>
          <p:cNvPicPr/>
          <p:nvPr/>
        </p:nvPicPr>
        <p:blipFill>
          <a:blip r:embed="rId2"/>
          <a:stretch/>
        </p:blipFill>
        <p:spPr>
          <a:xfrm>
            <a:off x="0" y="0"/>
            <a:ext cx="12192120" cy="3106800"/>
          </a:xfrm>
          <a:prstGeom prst="rect">
            <a:avLst/>
          </a:prstGeom>
          <a:ln w="0">
            <a:noFill/>
          </a:ln>
        </p:spPr>
      </p:pic>
      <p:pic>
        <p:nvPicPr>
          <p:cNvPr id="89" name="Picture 12" descr="PPT-4-11"/>
          <p:cNvPicPr/>
          <p:nvPr/>
        </p:nvPicPr>
        <p:blipFill>
          <a:blip r:embed="rId3"/>
          <a:stretch/>
        </p:blipFill>
        <p:spPr>
          <a:xfrm>
            <a:off x="0" y="6456240"/>
            <a:ext cx="12192120" cy="401760"/>
          </a:xfrm>
          <a:prstGeom prst="rect">
            <a:avLst/>
          </a:prstGeom>
          <a:ln w="0">
            <a:noFill/>
          </a:ln>
        </p:spPr>
      </p:pic>
      <p:sp>
        <p:nvSpPr>
          <p:cNvPr id="90" name="页脚占位符 1"/>
          <p:cNvSpPr/>
          <p:nvPr/>
        </p:nvSpPr>
        <p:spPr>
          <a:xfrm>
            <a:off x="92962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                                         </a:t>
            </a:r>
            <a:r>
              <a:rPr b="1" lang="en-US" sz="1400" spc="-1" strike="noStrike">
                <a:solidFill>
                  <a:srgbClr val="ffffff"/>
                </a:solidFill>
                <a:latin typeface="微软雅黑"/>
                <a:ea typeface="微软雅黑"/>
              </a:rPr>
              <a:t>1/2</a:t>
            </a:r>
            <a:endParaRPr b="0" lang="en-US" sz="1400" spc="-1" strike="noStrike">
              <a:solidFill>
                <a:srgbClr val="000000"/>
              </a:solidFill>
              <a:latin typeface="Calibri"/>
            </a:endParaRPr>
          </a:p>
        </p:txBody>
      </p:sp>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3" name="PlaceHolder 3"/>
          <p:cNvSpPr>
            <a:spLocks noGrp="1"/>
          </p:cNvSpPr>
          <p:nvPr>
            <p:ph type="dt" idx="7"/>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F7034-DC8D-4F1B-BF7C-BE9E2FEB96A9}"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4647960" y="6356520"/>
            <a:ext cx="2895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上海市食品药品监督管理局</a:t>
            </a:r>
            <a:endParaRPr b="0" lang="en-US" sz="1200" spc="-1" strike="noStrike">
              <a:solidFill>
                <a:srgbClr val="000000"/>
              </a:solidFill>
              <a:latin typeface="Times New Roman"/>
            </a:endParaRPr>
          </a:p>
        </p:txBody>
      </p:sp>
      <p:sp>
        <p:nvSpPr>
          <p:cNvPr id="95" name="PlaceHolder 5"/>
          <p:cNvSpPr>
            <a:spLocks noGrp="1"/>
          </p:cNvSpPr>
          <p:nvPr>
            <p:ph type="sldNum" idx="9"/>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EF479-F333-4FE1-A000-DAB80C157FE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3" descr="PPT-2"/>
          <p:cNvPicPr/>
          <p:nvPr/>
        </p:nvPicPr>
        <p:blipFill>
          <a:blip r:embed="rId2"/>
          <a:stretch/>
        </p:blipFill>
        <p:spPr>
          <a:xfrm>
            <a:off x="0" y="0"/>
            <a:ext cx="12192120" cy="3106800"/>
          </a:xfrm>
          <a:prstGeom prst="rect">
            <a:avLst/>
          </a:prstGeom>
          <a:ln w="0">
            <a:noFill/>
          </a:ln>
        </p:spPr>
      </p:pic>
      <p:pic>
        <p:nvPicPr>
          <p:cNvPr id="133" name="Picture 12" descr="PPT-4-11"/>
          <p:cNvPicPr/>
          <p:nvPr/>
        </p:nvPicPr>
        <p:blipFill>
          <a:blip r:embed="rId3"/>
          <a:stretch/>
        </p:blipFill>
        <p:spPr>
          <a:xfrm>
            <a:off x="0" y="6456240"/>
            <a:ext cx="12192120" cy="401760"/>
          </a:xfrm>
          <a:prstGeom prst="rect">
            <a:avLst/>
          </a:prstGeom>
          <a:ln w="0">
            <a:noFill/>
          </a:ln>
        </p:spPr>
      </p:pic>
      <p:sp>
        <p:nvSpPr>
          <p:cNvPr id="134" name="页脚占位符 1"/>
          <p:cNvSpPr/>
          <p:nvPr/>
        </p:nvSpPr>
        <p:spPr>
          <a:xfrm>
            <a:off x="92962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                                         </a:t>
            </a:r>
            <a:r>
              <a:rPr b="1" lang="en-US" sz="1400" spc="-1" strike="noStrike">
                <a:solidFill>
                  <a:srgbClr val="ffffff"/>
                </a:solidFill>
                <a:latin typeface="微软雅黑"/>
                <a:ea typeface="微软雅黑"/>
              </a:rPr>
              <a:t>1/2</a:t>
            </a:r>
            <a:endParaRPr b="0" lang="en-US" sz="1400" spc="-1" strike="noStrike">
              <a:solidFill>
                <a:srgbClr val="000000"/>
              </a:solidFill>
              <a:latin typeface="Calibri"/>
            </a:endParaRPr>
          </a:p>
        </p:txBody>
      </p:sp>
      <p:pic>
        <p:nvPicPr>
          <p:cNvPr id="135" name="Picture 6" descr="PPT-2-4"/>
          <p:cNvPicPr/>
          <p:nvPr/>
        </p:nvPicPr>
        <p:blipFill>
          <a:blip r:embed="rId4"/>
          <a:stretch/>
        </p:blipFill>
        <p:spPr>
          <a:xfrm>
            <a:off x="3522600" y="646200"/>
            <a:ext cx="8877240" cy="433440"/>
          </a:xfrm>
          <a:prstGeom prst="rect">
            <a:avLst/>
          </a:prstGeom>
          <a:ln w="0">
            <a:noFill/>
          </a:ln>
        </p:spPr>
      </p:pic>
      <p:pic>
        <p:nvPicPr>
          <p:cNvPr id="136" name="图片 2" descr=""/>
          <p:cNvPicPr/>
          <p:nvPr/>
        </p:nvPicPr>
        <p:blipFill>
          <a:blip r:embed="rId5"/>
          <a:stretch/>
        </p:blipFill>
        <p:spPr>
          <a:xfrm>
            <a:off x="171360" y="396720"/>
            <a:ext cx="3459240" cy="465120"/>
          </a:xfrm>
          <a:prstGeom prst="rect">
            <a:avLst/>
          </a:prstGeom>
          <a:ln w="0">
            <a:noFill/>
          </a:ln>
        </p:spPr>
      </p:pic>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39" name="PlaceHolder 3"/>
          <p:cNvSpPr>
            <a:spLocks noGrp="1"/>
          </p:cNvSpPr>
          <p:nvPr>
            <p:ph type="dt" idx="10"/>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9DFF5-7C71-449E-85F8-E48655533863}"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140" name="PlaceHolder 4"/>
          <p:cNvSpPr>
            <a:spLocks noGrp="1"/>
          </p:cNvSpPr>
          <p:nvPr>
            <p:ph type="ftr" idx="11"/>
          </p:nvPr>
        </p:nvSpPr>
        <p:spPr>
          <a:xfrm>
            <a:off x="4647960" y="6356520"/>
            <a:ext cx="2895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上海市食品药品监督管理局</a:t>
            </a:r>
            <a:endParaRPr b="0" lang="en-US" sz="1200" spc="-1" strike="noStrike">
              <a:solidFill>
                <a:srgbClr val="000000"/>
              </a:solidFill>
              <a:latin typeface="Times New Roman"/>
            </a:endParaRPr>
          </a:p>
        </p:txBody>
      </p:sp>
      <p:sp>
        <p:nvSpPr>
          <p:cNvPr id="141" name="PlaceHolder 5"/>
          <p:cNvSpPr>
            <a:spLocks noGrp="1"/>
          </p:cNvSpPr>
          <p:nvPr>
            <p:ph type="sldNum" idx="12"/>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32D96-3226-414B-ADD5-1A75DDAE16A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3" descr="PPT-2"/>
          <p:cNvPicPr/>
          <p:nvPr/>
        </p:nvPicPr>
        <p:blipFill>
          <a:blip r:embed="rId2"/>
          <a:stretch/>
        </p:blipFill>
        <p:spPr>
          <a:xfrm>
            <a:off x="0" y="0"/>
            <a:ext cx="12192120" cy="3106800"/>
          </a:xfrm>
          <a:prstGeom prst="rect">
            <a:avLst/>
          </a:prstGeom>
          <a:ln w="0">
            <a:noFill/>
          </a:ln>
        </p:spPr>
      </p:pic>
      <p:sp>
        <p:nvSpPr>
          <p:cNvPr id="179" name="页脚占位符 1"/>
          <p:cNvSpPr/>
          <p:nvPr/>
        </p:nvSpPr>
        <p:spPr>
          <a:xfrm>
            <a:off x="92962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                                         </a:t>
            </a:r>
            <a:r>
              <a:rPr b="1" lang="en-US" sz="1400" spc="-1" strike="noStrike">
                <a:solidFill>
                  <a:srgbClr val="ffffff"/>
                </a:solidFill>
                <a:latin typeface="微软雅黑"/>
                <a:ea typeface="微软雅黑"/>
              </a:rPr>
              <a:t>1/2</a:t>
            </a:r>
            <a:endParaRPr b="0" lang="en-US" sz="1400" spc="-1" strike="noStrike">
              <a:solidFill>
                <a:srgbClr val="000000"/>
              </a:solidFill>
              <a:latin typeface="Calibri"/>
            </a:endParaRPr>
          </a:p>
        </p:txBody>
      </p:sp>
      <p:sp>
        <p:nvSpPr>
          <p:cNvPr id="1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8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82" name="PlaceHolder 3"/>
          <p:cNvSpPr>
            <a:spLocks noGrp="1"/>
          </p:cNvSpPr>
          <p:nvPr>
            <p:ph type="dt" idx="13"/>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7148E-7C03-4596-8197-37BB1895BDFD}"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183" name="PlaceHolder 4"/>
          <p:cNvSpPr>
            <a:spLocks noGrp="1"/>
          </p:cNvSpPr>
          <p:nvPr>
            <p:ph type="ftr" idx="14"/>
          </p:nvPr>
        </p:nvSpPr>
        <p:spPr>
          <a:xfrm>
            <a:off x="4647960" y="6356520"/>
            <a:ext cx="2895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上海市食品药品监督管理局</a:t>
            </a:r>
            <a:endParaRPr b="0" lang="en-US" sz="1200" spc="-1" strike="noStrike">
              <a:solidFill>
                <a:srgbClr val="000000"/>
              </a:solidFill>
              <a:latin typeface="Times New Roman"/>
            </a:endParaRPr>
          </a:p>
        </p:txBody>
      </p:sp>
      <p:sp>
        <p:nvSpPr>
          <p:cNvPr id="184" name="PlaceHolder 5"/>
          <p:cNvSpPr>
            <a:spLocks noGrp="1"/>
          </p:cNvSpPr>
          <p:nvPr>
            <p:ph type="sldNum" idx="15"/>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44D0F-2FB8-43B6-9579-20728558833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Picture 3" descr="PPT-2"/>
          <p:cNvPicPr/>
          <p:nvPr/>
        </p:nvPicPr>
        <p:blipFill>
          <a:blip r:embed="rId2"/>
          <a:stretch/>
        </p:blipFill>
        <p:spPr>
          <a:xfrm>
            <a:off x="0" y="0"/>
            <a:ext cx="12192120" cy="3106800"/>
          </a:xfrm>
          <a:prstGeom prst="rect">
            <a:avLst/>
          </a:prstGeom>
          <a:ln w="0">
            <a:noFill/>
          </a:ln>
        </p:spPr>
      </p:pic>
      <p:pic>
        <p:nvPicPr>
          <p:cNvPr id="222" name="Picture 12" descr="PPT-4-11"/>
          <p:cNvPicPr/>
          <p:nvPr/>
        </p:nvPicPr>
        <p:blipFill>
          <a:blip r:embed="rId3"/>
          <a:stretch/>
        </p:blipFill>
        <p:spPr>
          <a:xfrm>
            <a:off x="0" y="6456240"/>
            <a:ext cx="12192120" cy="401760"/>
          </a:xfrm>
          <a:prstGeom prst="rect">
            <a:avLst/>
          </a:prstGeom>
          <a:ln w="0">
            <a:noFill/>
          </a:ln>
        </p:spPr>
      </p:pic>
      <p:sp>
        <p:nvSpPr>
          <p:cNvPr id="223" name="页脚占位符 1"/>
          <p:cNvSpPr/>
          <p:nvPr/>
        </p:nvSpPr>
        <p:spPr>
          <a:xfrm>
            <a:off x="92962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                                         </a:t>
            </a:r>
            <a:r>
              <a:rPr b="1" lang="en-US" sz="1400" spc="-1" strike="noStrike">
                <a:solidFill>
                  <a:srgbClr val="ffffff"/>
                </a:solidFill>
                <a:latin typeface="微软雅黑"/>
                <a:ea typeface="微软雅黑"/>
              </a:rPr>
              <a:t>1/2</a:t>
            </a:r>
            <a:endParaRPr b="0" lang="en-US" sz="1400" spc="-1" strike="noStrike">
              <a:solidFill>
                <a:srgbClr val="000000"/>
              </a:solidFill>
              <a:latin typeface="Calibri"/>
            </a:endParaRPr>
          </a:p>
        </p:txBody>
      </p:sp>
      <p:pic>
        <p:nvPicPr>
          <p:cNvPr id="224" name="Picture 6" descr="PPT-2-4"/>
          <p:cNvPicPr/>
          <p:nvPr/>
        </p:nvPicPr>
        <p:blipFill>
          <a:blip r:embed="rId4"/>
          <a:stretch/>
        </p:blipFill>
        <p:spPr>
          <a:xfrm>
            <a:off x="3522600" y="646200"/>
            <a:ext cx="8877240" cy="433440"/>
          </a:xfrm>
          <a:prstGeom prst="rect">
            <a:avLst/>
          </a:prstGeom>
          <a:ln w="0">
            <a:noFill/>
          </a:ln>
        </p:spPr>
      </p:pic>
      <p:pic>
        <p:nvPicPr>
          <p:cNvPr id="225" name="图片 2" descr=""/>
          <p:cNvPicPr/>
          <p:nvPr/>
        </p:nvPicPr>
        <p:blipFill>
          <a:blip r:embed="rId5"/>
          <a:stretch/>
        </p:blipFill>
        <p:spPr>
          <a:xfrm>
            <a:off x="171360" y="396720"/>
            <a:ext cx="3459240" cy="465120"/>
          </a:xfrm>
          <a:prstGeom prst="rect">
            <a:avLst/>
          </a:prstGeom>
          <a:ln w="0">
            <a:noFill/>
          </a:ln>
        </p:spPr>
      </p:pic>
      <p:sp>
        <p:nvSpPr>
          <p:cNvPr id="2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28" name="PlaceHolder 3"/>
          <p:cNvSpPr>
            <a:spLocks noGrp="1"/>
          </p:cNvSpPr>
          <p:nvPr>
            <p:ph type="dt" idx="16"/>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FFB5-A08A-44CA-A358-A7758507AF52}"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229" name="PlaceHolder 4"/>
          <p:cNvSpPr>
            <a:spLocks noGrp="1"/>
          </p:cNvSpPr>
          <p:nvPr>
            <p:ph type="ftr" idx="17"/>
          </p:nvPr>
        </p:nvSpPr>
        <p:spPr>
          <a:xfrm>
            <a:off x="4647960" y="6356520"/>
            <a:ext cx="2895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上海市食品药品监督管理局</a:t>
            </a:r>
            <a:endParaRPr b="0" lang="en-US" sz="1200" spc="-1" strike="noStrike">
              <a:solidFill>
                <a:srgbClr val="000000"/>
              </a:solidFill>
              <a:latin typeface="Times New Roman"/>
            </a:endParaRPr>
          </a:p>
        </p:txBody>
      </p:sp>
      <p:sp>
        <p:nvSpPr>
          <p:cNvPr id="230" name="PlaceHolder 5"/>
          <p:cNvSpPr>
            <a:spLocks noGrp="1"/>
          </p:cNvSpPr>
          <p:nvPr>
            <p:ph type="sldNum" idx="18"/>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1BFF4-354C-41C9-9407-055EE6165ED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3" descr="PPT-2"/>
          <p:cNvPicPr/>
          <p:nvPr/>
        </p:nvPicPr>
        <p:blipFill>
          <a:blip r:embed="rId2"/>
          <a:stretch/>
        </p:blipFill>
        <p:spPr>
          <a:xfrm>
            <a:off x="0" y="0"/>
            <a:ext cx="12192120" cy="3106800"/>
          </a:xfrm>
          <a:prstGeom prst="rect">
            <a:avLst/>
          </a:prstGeom>
          <a:ln w="0">
            <a:noFill/>
          </a:ln>
        </p:spPr>
      </p:pic>
      <p:pic>
        <p:nvPicPr>
          <p:cNvPr id="268" name="Picture 12" descr="PPT-4-11"/>
          <p:cNvPicPr/>
          <p:nvPr/>
        </p:nvPicPr>
        <p:blipFill>
          <a:blip r:embed="rId3"/>
          <a:stretch/>
        </p:blipFill>
        <p:spPr>
          <a:xfrm>
            <a:off x="0" y="6456240"/>
            <a:ext cx="12192120" cy="401760"/>
          </a:xfrm>
          <a:prstGeom prst="rect">
            <a:avLst/>
          </a:prstGeom>
          <a:ln w="0">
            <a:noFill/>
          </a:ln>
        </p:spPr>
      </p:pic>
      <p:sp>
        <p:nvSpPr>
          <p:cNvPr id="269" name="页脚占位符 1"/>
          <p:cNvSpPr/>
          <p:nvPr/>
        </p:nvSpPr>
        <p:spPr>
          <a:xfrm>
            <a:off x="92962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                                         </a:t>
            </a:r>
            <a:r>
              <a:rPr b="1" lang="en-US" sz="1400" spc="-1" strike="noStrike">
                <a:solidFill>
                  <a:srgbClr val="ffffff"/>
                </a:solidFill>
                <a:latin typeface="微软雅黑"/>
                <a:ea typeface="微软雅黑"/>
              </a:rPr>
              <a:t>1/2</a:t>
            </a:r>
            <a:endParaRPr b="0" lang="en-US" sz="1400" spc="-1" strike="noStrike">
              <a:solidFill>
                <a:srgbClr val="000000"/>
              </a:solidFill>
              <a:latin typeface="Calibri"/>
            </a:endParaRPr>
          </a:p>
        </p:txBody>
      </p:sp>
      <p:pic>
        <p:nvPicPr>
          <p:cNvPr id="270" name="Picture 6" descr="PPT-2-4"/>
          <p:cNvPicPr/>
          <p:nvPr/>
        </p:nvPicPr>
        <p:blipFill>
          <a:blip r:embed="rId4"/>
          <a:stretch/>
        </p:blipFill>
        <p:spPr>
          <a:xfrm>
            <a:off x="3522600" y="646200"/>
            <a:ext cx="8877240" cy="433440"/>
          </a:xfrm>
          <a:prstGeom prst="rect">
            <a:avLst/>
          </a:prstGeom>
          <a:ln w="0">
            <a:noFill/>
          </a:ln>
        </p:spPr>
      </p:pic>
      <p:pic>
        <p:nvPicPr>
          <p:cNvPr id="271" name="图片 2" descr=""/>
          <p:cNvPicPr/>
          <p:nvPr/>
        </p:nvPicPr>
        <p:blipFill>
          <a:blip r:embed="rId5"/>
          <a:stretch/>
        </p:blipFill>
        <p:spPr>
          <a:xfrm>
            <a:off x="171360" y="396720"/>
            <a:ext cx="3459240" cy="465120"/>
          </a:xfrm>
          <a:prstGeom prst="rect">
            <a:avLst/>
          </a:prstGeom>
          <a:ln w="0">
            <a:noFill/>
          </a:ln>
        </p:spPr>
      </p:pic>
      <p:sp>
        <p:nvSpPr>
          <p:cNvPr id="2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74" name="PlaceHolder 3"/>
          <p:cNvSpPr>
            <a:spLocks noGrp="1"/>
          </p:cNvSpPr>
          <p:nvPr>
            <p:ph type="dt" idx="19"/>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F1B31-725B-495D-BA0B-A4ECEAF830E6}"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275" name="PlaceHolder 4"/>
          <p:cNvSpPr>
            <a:spLocks noGrp="1"/>
          </p:cNvSpPr>
          <p:nvPr>
            <p:ph type="ftr" idx="20"/>
          </p:nvPr>
        </p:nvSpPr>
        <p:spPr>
          <a:xfrm>
            <a:off x="4647960" y="6356520"/>
            <a:ext cx="2895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上海市食品药品监督管理局</a:t>
            </a:r>
            <a:endParaRPr b="0" lang="en-US" sz="1200" spc="-1" strike="noStrike">
              <a:solidFill>
                <a:srgbClr val="000000"/>
              </a:solidFill>
              <a:latin typeface="Times New Roman"/>
            </a:endParaRPr>
          </a:p>
        </p:txBody>
      </p:sp>
      <p:sp>
        <p:nvSpPr>
          <p:cNvPr id="276" name="PlaceHolder 5"/>
          <p:cNvSpPr>
            <a:spLocks noGrp="1"/>
          </p:cNvSpPr>
          <p:nvPr>
            <p:ph type="sldNum" idx="21"/>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9BD5B-6099-4A3C-AC2F-78A628809CB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Picture 3" descr="PPT-2"/>
          <p:cNvPicPr/>
          <p:nvPr/>
        </p:nvPicPr>
        <p:blipFill>
          <a:blip r:embed="rId2"/>
          <a:stretch/>
        </p:blipFill>
        <p:spPr>
          <a:xfrm>
            <a:off x="0" y="0"/>
            <a:ext cx="12192120" cy="3106800"/>
          </a:xfrm>
          <a:prstGeom prst="rect">
            <a:avLst/>
          </a:prstGeom>
          <a:ln w="0">
            <a:noFill/>
          </a:ln>
        </p:spPr>
      </p:pic>
      <p:pic>
        <p:nvPicPr>
          <p:cNvPr id="314" name="Picture 12" descr="PPT-4-11"/>
          <p:cNvPicPr/>
          <p:nvPr/>
        </p:nvPicPr>
        <p:blipFill>
          <a:blip r:embed="rId3"/>
          <a:stretch/>
        </p:blipFill>
        <p:spPr>
          <a:xfrm>
            <a:off x="0" y="6456240"/>
            <a:ext cx="12192120" cy="401760"/>
          </a:xfrm>
          <a:prstGeom prst="rect">
            <a:avLst/>
          </a:prstGeom>
          <a:ln w="0">
            <a:noFill/>
          </a:ln>
        </p:spPr>
      </p:pic>
      <p:sp>
        <p:nvSpPr>
          <p:cNvPr id="315" name="页脚占位符 1"/>
          <p:cNvSpPr/>
          <p:nvPr/>
        </p:nvSpPr>
        <p:spPr>
          <a:xfrm>
            <a:off x="92962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                                         </a:t>
            </a:r>
            <a:r>
              <a:rPr b="1" lang="en-US" sz="1400" spc="-1" strike="noStrike">
                <a:solidFill>
                  <a:srgbClr val="ffffff"/>
                </a:solidFill>
                <a:latin typeface="微软雅黑"/>
                <a:ea typeface="微软雅黑"/>
              </a:rPr>
              <a:t>1/2</a:t>
            </a:r>
            <a:endParaRPr b="0" lang="en-US" sz="1400" spc="-1" strike="noStrike">
              <a:solidFill>
                <a:srgbClr val="000000"/>
              </a:solidFill>
              <a:latin typeface="Calibri"/>
            </a:endParaRPr>
          </a:p>
        </p:txBody>
      </p:sp>
      <p:pic>
        <p:nvPicPr>
          <p:cNvPr id="316" name="Picture 6" descr="PPT-2-4"/>
          <p:cNvPicPr/>
          <p:nvPr/>
        </p:nvPicPr>
        <p:blipFill>
          <a:blip r:embed="rId4"/>
          <a:stretch/>
        </p:blipFill>
        <p:spPr>
          <a:xfrm>
            <a:off x="3522600" y="646200"/>
            <a:ext cx="8877240" cy="433440"/>
          </a:xfrm>
          <a:prstGeom prst="rect">
            <a:avLst/>
          </a:prstGeom>
          <a:ln w="0">
            <a:noFill/>
          </a:ln>
        </p:spPr>
      </p:pic>
      <p:pic>
        <p:nvPicPr>
          <p:cNvPr id="317" name="图片 2" descr=""/>
          <p:cNvPicPr/>
          <p:nvPr/>
        </p:nvPicPr>
        <p:blipFill>
          <a:blip r:embed="rId5"/>
          <a:stretch/>
        </p:blipFill>
        <p:spPr>
          <a:xfrm>
            <a:off x="171360" y="396720"/>
            <a:ext cx="3459240" cy="465120"/>
          </a:xfrm>
          <a:prstGeom prst="rect">
            <a:avLst/>
          </a:prstGeom>
          <a:ln w="0">
            <a:noFill/>
          </a:ln>
        </p:spPr>
      </p:pic>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1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20" name="PlaceHolder 3"/>
          <p:cNvSpPr>
            <a:spLocks noGrp="1"/>
          </p:cNvSpPr>
          <p:nvPr>
            <p:ph type="dt" idx="22"/>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8637E-C4E3-4638-B714-D5AADCC3FCD2}"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321" name="PlaceHolder 4"/>
          <p:cNvSpPr>
            <a:spLocks noGrp="1"/>
          </p:cNvSpPr>
          <p:nvPr>
            <p:ph type="ftr" idx="23"/>
          </p:nvPr>
        </p:nvSpPr>
        <p:spPr>
          <a:xfrm>
            <a:off x="4647960" y="6356520"/>
            <a:ext cx="2895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上海市食品药品监督管理局</a:t>
            </a:r>
            <a:endParaRPr b="0" lang="en-US" sz="1200" spc="-1" strike="noStrike">
              <a:solidFill>
                <a:srgbClr val="000000"/>
              </a:solidFill>
              <a:latin typeface="Times New Roman"/>
            </a:endParaRPr>
          </a:p>
        </p:txBody>
      </p:sp>
      <p:sp>
        <p:nvSpPr>
          <p:cNvPr id="322" name="PlaceHolder 5"/>
          <p:cNvSpPr>
            <a:spLocks noGrp="1"/>
          </p:cNvSpPr>
          <p:nvPr>
            <p:ph type="sldNum" idx="24"/>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49235-FA10-446A-AB8E-EE3A2241C54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Picture 3" descr="PPT-2"/>
          <p:cNvPicPr/>
          <p:nvPr/>
        </p:nvPicPr>
        <p:blipFill>
          <a:blip r:embed="rId2"/>
          <a:stretch/>
        </p:blipFill>
        <p:spPr>
          <a:xfrm>
            <a:off x="0" y="0"/>
            <a:ext cx="12192120" cy="3106800"/>
          </a:xfrm>
          <a:prstGeom prst="rect">
            <a:avLst/>
          </a:prstGeom>
          <a:ln w="0">
            <a:noFill/>
          </a:ln>
        </p:spPr>
      </p:pic>
      <p:pic>
        <p:nvPicPr>
          <p:cNvPr id="360" name="Picture 12" descr="PPT-4-11"/>
          <p:cNvPicPr/>
          <p:nvPr/>
        </p:nvPicPr>
        <p:blipFill>
          <a:blip r:embed="rId3"/>
          <a:stretch/>
        </p:blipFill>
        <p:spPr>
          <a:xfrm>
            <a:off x="0" y="6456240"/>
            <a:ext cx="12192120" cy="401760"/>
          </a:xfrm>
          <a:prstGeom prst="rect">
            <a:avLst/>
          </a:prstGeom>
          <a:ln w="0">
            <a:noFill/>
          </a:ln>
        </p:spPr>
      </p:pic>
      <p:sp>
        <p:nvSpPr>
          <p:cNvPr id="361" name="页脚占位符 1"/>
          <p:cNvSpPr/>
          <p:nvPr/>
        </p:nvSpPr>
        <p:spPr>
          <a:xfrm>
            <a:off x="92962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                                         </a:t>
            </a:r>
            <a:r>
              <a:rPr b="1" lang="en-US" sz="1400" spc="-1" strike="noStrike">
                <a:solidFill>
                  <a:srgbClr val="ffffff"/>
                </a:solidFill>
                <a:latin typeface="微软雅黑"/>
                <a:ea typeface="微软雅黑"/>
              </a:rPr>
              <a:t>1/2</a:t>
            </a:r>
            <a:endParaRPr b="0" lang="en-US" sz="1400" spc="-1" strike="noStrike">
              <a:solidFill>
                <a:srgbClr val="000000"/>
              </a:solidFill>
              <a:latin typeface="Calibri"/>
            </a:endParaRPr>
          </a:p>
        </p:txBody>
      </p:sp>
      <p:pic>
        <p:nvPicPr>
          <p:cNvPr id="362" name="Picture 6" descr="PPT-2-4"/>
          <p:cNvPicPr/>
          <p:nvPr/>
        </p:nvPicPr>
        <p:blipFill>
          <a:blip r:embed="rId4"/>
          <a:stretch/>
        </p:blipFill>
        <p:spPr>
          <a:xfrm>
            <a:off x="3522600" y="646200"/>
            <a:ext cx="8877240" cy="433440"/>
          </a:xfrm>
          <a:prstGeom prst="rect">
            <a:avLst/>
          </a:prstGeom>
          <a:ln w="0">
            <a:noFill/>
          </a:ln>
        </p:spPr>
      </p:pic>
      <p:pic>
        <p:nvPicPr>
          <p:cNvPr id="363" name="图片 2" descr=""/>
          <p:cNvPicPr/>
          <p:nvPr/>
        </p:nvPicPr>
        <p:blipFill>
          <a:blip r:embed="rId5"/>
          <a:stretch/>
        </p:blipFill>
        <p:spPr>
          <a:xfrm>
            <a:off x="171360" y="396720"/>
            <a:ext cx="3459240" cy="465120"/>
          </a:xfrm>
          <a:prstGeom prst="rect">
            <a:avLst/>
          </a:prstGeom>
          <a:ln w="0">
            <a:noFill/>
          </a:ln>
        </p:spPr>
      </p:pic>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6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66" name="PlaceHolder 3"/>
          <p:cNvSpPr>
            <a:spLocks noGrp="1"/>
          </p:cNvSpPr>
          <p:nvPr>
            <p:ph type="dt" idx="25"/>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1FFFF-3C90-4566-B2F4-48A3A8D338FD}"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367" name="PlaceHolder 4"/>
          <p:cNvSpPr>
            <a:spLocks noGrp="1"/>
          </p:cNvSpPr>
          <p:nvPr>
            <p:ph type="ftr" idx="26"/>
          </p:nvPr>
        </p:nvSpPr>
        <p:spPr>
          <a:xfrm>
            <a:off x="4647960" y="6356520"/>
            <a:ext cx="2895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上海市食品药品监督管理局</a:t>
            </a:r>
            <a:endParaRPr b="0" lang="en-US" sz="1200" spc="-1" strike="noStrike">
              <a:solidFill>
                <a:srgbClr val="000000"/>
              </a:solidFill>
              <a:latin typeface="Times New Roman"/>
            </a:endParaRPr>
          </a:p>
        </p:txBody>
      </p:sp>
      <p:sp>
        <p:nvSpPr>
          <p:cNvPr id="368" name="PlaceHolder 5"/>
          <p:cNvSpPr>
            <a:spLocks noGrp="1"/>
          </p:cNvSpPr>
          <p:nvPr>
            <p:ph type="sldNum" idx="27"/>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4F9C3-9726-4364-8292-96A1F1F06D6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FB68B-79A2-46C6-BABF-854FD3E5BA07}"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406"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407"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30500-2563-4D3D-84E8-A23DC7CEAF2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08"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715FF-E878-479E-AF0A-35B836CEA858}"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409"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410"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2B5AA-6E01-4EEF-838F-CD6A42360A1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11" name="PlaceHolder 1"/>
          <p:cNvSpPr>
            <a:spLocks noGrp="1"/>
          </p:cNvSpPr>
          <p:nvPr>
            <p:ph type="title"/>
          </p:nvPr>
        </p:nvSpPr>
        <p:spPr>
          <a:xfrm>
            <a:off x="909360" y="1288800"/>
            <a:ext cx="10467720" cy="164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Light"/>
                <a:ea typeface="楷体_GB2312"/>
              </a:rPr>
              <a:t>上海市食品安全条例解读</a:t>
            </a:r>
            <a:endParaRPr b="0" lang="en-US" sz="4800" spc="-1" strike="noStrike">
              <a:solidFill>
                <a:srgbClr val="000000"/>
              </a:solidFill>
              <a:latin typeface="Calibri Light"/>
            </a:endParaRPr>
          </a:p>
        </p:txBody>
      </p:sp>
      <p:sp>
        <p:nvSpPr>
          <p:cNvPr id="412" name="PlaceHolder 2"/>
          <p:cNvSpPr>
            <a:spLocks noGrp="1"/>
          </p:cNvSpPr>
          <p:nvPr>
            <p:ph type="subTitle"/>
          </p:nvPr>
        </p:nvSpPr>
        <p:spPr>
          <a:xfrm>
            <a:off x="1828440" y="3886200"/>
            <a:ext cx="8534520" cy="2206800"/>
          </a:xfrm>
          <a:prstGeom prst="rect">
            <a:avLst/>
          </a:prstGeom>
          <a:noFill/>
          <a:ln w="0">
            <a:noFill/>
          </a:ln>
        </p:spPr>
        <p:txBody>
          <a:bodyPr anchor="t">
            <a:noAutofit/>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顾振华</a:t>
            </a:r>
            <a:endParaRPr b="0" lang="en-US" sz="3600" spc="-1" strike="noStrike">
              <a:solidFill>
                <a:srgbClr val="000000"/>
              </a:solidFill>
              <a:latin typeface="Calibri"/>
            </a:endParaRPr>
          </a:p>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上海市食品安全工作联合会</a:t>
            </a:r>
            <a:endParaRPr b="0" lang="en-US" sz="3600" spc="-1" strike="noStrike">
              <a:solidFill>
                <a:srgbClr val="000000"/>
              </a:solidFill>
              <a:latin typeface="Calibri"/>
            </a:endParaRPr>
          </a:p>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017</a:t>
            </a:r>
            <a:r>
              <a:rPr b="1" lang="zh-CN" sz="3600" spc="-1" strike="noStrike">
                <a:solidFill>
                  <a:srgbClr val="000000"/>
                </a:solidFill>
                <a:latin typeface="楷体_GB2312"/>
                <a:ea typeface="楷体_GB2312"/>
              </a:rPr>
              <a:t>年</a:t>
            </a: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月</a:t>
            </a:r>
            <a:r>
              <a:rPr b="1" lang="en-US" sz="3600" spc="-1" strike="noStrike">
                <a:solidFill>
                  <a:srgbClr val="000000"/>
                </a:solidFill>
                <a:latin typeface="楷体_GB2312"/>
                <a:ea typeface="楷体_GB2312"/>
              </a:rPr>
              <a:t>15</a:t>
            </a:r>
            <a:r>
              <a:rPr b="1" lang="zh-CN" sz="3600" spc="-1" strike="noStrike">
                <a:solidFill>
                  <a:srgbClr val="000000"/>
                </a:solidFill>
                <a:latin typeface="楷体_GB2312"/>
                <a:ea typeface="楷体_GB2312"/>
              </a:rPr>
              <a:t>日</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AF723-322C-4FC0-A9F8-2AA1E5B5B2C7}"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476"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477"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48CE0-6CC6-4290-BBA9-565968DF88D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78"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7B919-3A54-4E9F-B6E7-08051BD6C14B}"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479"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480"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77DA5-5C16-41E7-B1EE-66A25FE74EB1}"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8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框架结构</a:t>
            </a:r>
            <a:endParaRPr b="0" lang="en-US" sz="4800" spc="-1" strike="noStrike">
              <a:solidFill>
                <a:srgbClr val="000000"/>
              </a:solidFill>
              <a:latin typeface="Calibri Light"/>
            </a:endParaRPr>
          </a:p>
        </p:txBody>
      </p:sp>
      <p:sp>
        <p:nvSpPr>
          <p:cNvPr id="482" name="PlaceHolder 2"/>
          <p:cNvSpPr>
            <a:spLocks noGrp="1"/>
          </p:cNvSpPr>
          <p:nvPr>
            <p:ph/>
          </p:nvPr>
        </p:nvSpPr>
        <p:spPr>
          <a:xfrm>
            <a:off x="666720" y="2017800"/>
            <a:ext cx="1101096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
                <a:ea typeface="楷体_GB2312"/>
              </a:rPr>
              <a:t>第一章 总则（</a:t>
            </a:r>
            <a:r>
              <a:rPr b="1" lang="en-US" sz="3200" spc="-1" strike="noStrike">
                <a:solidFill>
                  <a:srgbClr val="000000"/>
                </a:solidFill>
                <a:latin typeface="仿宋"/>
                <a:ea typeface="楷体_GB2312"/>
              </a:rPr>
              <a:t>12</a:t>
            </a:r>
            <a:r>
              <a:rPr b="1" lang="zh-CN" sz="3200" spc="-1" strike="noStrike">
                <a:solidFill>
                  <a:srgbClr val="000000"/>
                </a:solidFill>
                <a:latin typeface="仿宋"/>
                <a:ea typeface="楷体_GB2312"/>
              </a:rPr>
              <a:t>条）</a:t>
            </a:r>
            <a:endParaRPr b="0" lang="en-US" sz="3200" spc="-1" strike="noStrike">
              <a:solidFill>
                <a:srgbClr val="000000"/>
              </a:solidFill>
              <a:latin typeface="Calibri"/>
            </a:endParaRPr>
          </a:p>
          <a:p>
            <a:pPr marL="228600" indent="-228600">
              <a:lnSpc>
                <a:spcPct val="11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仿宋"/>
                <a:ea typeface="楷体_GB2312"/>
              </a:rPr>
              <a:t>第二章 食品安全风险监测、评估和食品安全标准</a:t>
            </a:r>
            <a:r>
              <a:rPr b="1" lang="zh-CN" sz="3200" spc="-1" strike="noStrike">
                <a:solidFill>
                  <a:srgbClr val="000000"/>
                </a:solidFill>
                <a:latin typeface="仿宋"/>
                <a:ea typeface="楷体_GB2312"/>
              </a:rPr>
              <a:t>（</a:t>
            </a:r>
            <a:r>
              <a:rPr b="1" lang="en-US" sz="3200" spc="-1" strike="noStrike">
                <a:solidFill>
                  <a:srgbClr val="000000"/>
                </a:solidFill>
                <a:latin typeface="仿宋"/>
                <a:ea typeface="楷体_GB2312"/>
              </a:rPr>
              <a:t>6</a:t>
            </a:r>
            <a:r>
              <a:rPr b="1" lang="zh-CN" sz="3200" spc="-1" strike="noStrike">
                <a:solidFill>
                  <a:srgbClr val="000000"/>
                </a:solidFill>
                <a:latin typeface="仿宋"/>
                <a:ea typeface="楷体_GB2312"/>
              </a:rPr>
              <a:t>条）</a:t>
            </a:r>
            <a:endParaRPr b="0" lang="en-US" sz="3200" spc="-1" strike="noStrike">
              <a:solidFill>
                <a:srgbClr val="000000"/>
              </a:solidFill>
              <a:latin typeface="Calibri"/>
            </a:endParaRPr>
          </a:p>
          <a:p>
            <a:pPr marL="228600" indent="-228600">
              <a:lnSpc>
                <a:spcPct val="9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仿宋"/>
                <a:ea typeface="楷体_GB2312"/>
              </a:rPr>
              <a:t>第三章 食品生产经营</a:t>
            </a:r>
            <a:r>
              <a:rPr b="1" lang="zh-CN" sz="3200" spc="-1" strike="noStrike">
                <a:solidFill>
                  <a:srgbClr val="000000"/>
                </a:solidFill>
                <a:latin typeface="仿宋"/>
                <a:ea typeface="楷体_GB2312"/>
              </a:rPr>
              <a:t>（</a:t>
            </a:r>
            <a:r>
              <a:rPr b="1" lang="en-US" sz="3200" spc="-1" strike="noStrike">
                <a:solidFill>
                  <a:srgbClr val="000000"/>
                </a:solidFill>
                <a:latin typeface="仿宋"/>
                <a:ea typeface="楷体_GB2312"/>
              </a:rPr>
              <a:t>36</a:t>
            </a:r>
            <a:r>
              <a:rPr b="1" lang="zh-CN" sz="3200" spc="-1" strike="noStrike">
                <a:solidFill>
                  <a:srgbClr val="000000"/>
                </a:solidFill>
                <a:latin typeface="仿宋"/>
                <a:ea typeface="楷体_GB2312"/>
              </a:rPr>
              <a:t>条）</a:t>
            </a:r>
            <a:endParaRPr b="0" lang="en-US" sz="3200" spc="-1" strike="noStrike">
              <a:solidFill>
                <a:srgbClr val="000000"/>
              </a:solidFill>
              <a:latin typeface="Calibri"/>
            </a:endParaRPr>
          </a:p>
          <a:p>
            <a:pPr lvl="1" marL="685800" indent="-228600">
              <a:lnSpc>
                <a:spcPct val="90000"/>
              </a:lnSpc>
              <a:spcBef>
                <a:spcPts val="10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
                <a:ea typeface="楷体_GB2312"/>
              </a:rPr>
              <a:t>第一节 市场准入的一般规定</a:t>
            </a:r>
            <a:r>
              <a:rPr b="1" lang="zh-CN" sz="2800" spc="-1" strike="noStrike">
                <a:solidFill>
                  <a:srgbClr val="000000"/>
                </a:solidFill>
                <a:latin typeface="仿宋"/>
                <a:ea typeface="楷体_GB2312"/>
              </a:rPr>
              <a:t>（</a:t>
            </a:r>
            <a:r>
              <a:rPr b="1" lang="en-US" sz="2800" spc="-1" strike="noStrike">
                <a:solidFill>
                  <a:srgbClr val="000000"/>
                </a:solidFill>
                <a:latin typeface="仿宋"/>
                <a:ea typeface="楷体_GB2312"/>
              </a:rPr>
              <a:t>4</a:t>
            </a:r>
            <a:r>
              <a:rPr b="1" lang="zh-CN" sz="2800" spc="-1" strike="noStrike">
                <a:solidFill>
                  <a:srgbClr val="000000"/>
                </a:solidFill>
                <a:latin typeface="仿宋"/>
                <a:ea typeface="楷体_GB2312"/>
              </a:rPr>
              <a:t>条）</a:t>
            </a:r>
            <a:endParaRPr b="0" lang="en-US" sz="2800" spc="-1" strike="noStrike">
              <a:solidFill>
                <a:srgbClr val="000000"/>
              </a:solidFill>
              <a:latin typeface="Calibri"/>
            </a:endParaRPr>
          </a:p>
          <a:p>
            <a:pPr lvl="1" marL="685800" indent="-228600">
              <a:lnSpc>
                <a:spcPct val="90000"/>
              </a:lnSpc>
              <a:spcBef>
                <a:spcPts val="10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
                <a:ea typeface="楷体_GB2312"/>
              </a:rPr>
              <a:t>第二节</a:t>
            </a:r>
            <a:r>
              <a:rPr b="1" lang="en-US" sz="2800" spc="-1" strike="noStrike">
                <a:solidFill>
                  <a:srgbClr val="ff0000"/>
                </a:solidFill>
                <a:latin typeface="仿宋"/>
                <a:ea typeface="楷体_GB2312"/>
              </a:rPr>
              <a:t> </a:t>
            </a:r>
            <a:r>
              <a:rPr b="1" lang="zh-CN" sz="2800" spc="-1" strike="noStrike">
                <a:solidFill>
                  <a:srgbClr val="ff0000"/>
                </a:solidFill>
                <a:latin typeface="仿宋"/>
                <a:ea typeface="楷体_GB2312"/>
              </a:rPr>
              <a:t>生产经营过程控制</a:t>
            </a:r>
            <a:r>
              <a:rPr b="1" lang="zh-CN" sz="2800" spc="-1" strike="noStrike">
                <a:solidFill>
                  <a:srgbClr val="000000"/>
                </a:solidFill>
                <a:latin typeface="仿宋"/>
                <a:ea typeface="楷体_GB2312"/>
              </a:rPr>
              <a:t>（</a:t>
            </a:r>
            <a:r>
              <a:rPr b="1" lang="en-US" sz="2800" spc="-1" strike="noStrike">
                <a:solidFill>
                  <a:srgbClr val="000000"/>
                </a:solidFill>
                <a:latin typeface="仿宋"/>
                <a:ea typeface="楷体_GB2312"/>
              </a:rPr>
              <a:t>23</a:t>
            </a:r>
            <a:r>
              <a:rPr b="1" lang="zh-CN" sz="2800" spc="-1" strike="noStrike">
                <a:solidFill>
                  <a:srgbClr val="000000"/>
                </a:solidFill>
                <a:latin typeface="仿宋"/>
                <a:ea typeface="楷体_GB2312"/>
              </a:rPr>
              <a:t>条）</a:t>
            </a:r>
            <a:endParaRPr b="0" lang="en-US" sz="2800" spc="-1" strike="noStrike">
              <a:solidFill>
                <a:srgbClr val="000000"/>
              </a:solidFill>
              <a:latin typeface="Calibri"/>
            </a:endParaRPr>
          </a:p>
          <a:p>
            <a:pPr lvl="1" marL="685800" indent="-228600">
              <a:lnSpc>
                <a:spcPct val="90000"/>
              </a:lnSpc>
              <a:spcBef>
                <a:spcPts val="10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
                <a:ea typeface="楷体_GB2312"/>
              </a:rPr>
              <a:t>第三节</a:t>
            </a:r>
            <a:r>
              <a:rPr b="1" lang="en-US" sz="2800" spc="-1" strike="noStrike">
                <a:solidFill>
                  <a:srgbClr val="ff0000"/>
                </a:solidFill>
                <a:latin typeface="仿宋"/>
                <a:ea typeface="楷体_GB2312"/>
              </a:rPr>
              <a:t> </a:t>
            </a:r>
            <a:r>
              <a:rPr b="1" lang="zh-CN" sz="2800" spc="-1" strike="noStrike">
                <a:solidFill>
                  <a:srgbClr val="ff0000"/>
                </a:solidFill>
                <a:latin typeface="仿宋"/>
                <a:ea typeface="楷体_GB2312"/>
              </a:rPr>
              <a:t>食用农产品</a:t>
            </a:r>
            <a:r>
              <a:rPr b="1" lang="zh-CN" sz="2800" spc="-1" strike="noStrike">
                <a:solidFill>
                  <a:srgbClr val="000000"/>
                </a:solidFill>
                <a:latin typeface="仿宋"/>
                <a:ea typeface="楷体_GB2312"/>
              </a:rPr>
              <a:t>（</a:t>
            </a:r>
            <a:r>
              <a:rPr b="1" lang="en-US" sz="2800" spc="-1" strike="noStrike">
                <a:solidFill>
                  <a:srgbClr val="000000"/>
                </a:solidFill>
                <a:latin typeface="仿宋"/>
                <a:ea typeface="楷体_GB2312"/>
              </a:rPr>
              <a:t>5</a:t>
            </a:r>
            <a:r>
              <a:rPr b="1" lang="zh-CN" sz="2800" spc="-1" strike="noStrike">
                <a:solidFill>
                  <a:srgbClr val="000000"/>
                </a:solidFill>
                <a:latin typeface="仿宋"/>
                <a:ea typeface="楷体_GB2312"/>
              </a:rPr>
              <a:t>条）</a:t>
            </a:r>
            <a:endParaRPr b="0" lang="en-US" sz="2800" spc="-1" strike="noStrike">
              <a:solidFill>
                <a:srgbClr val="000000"/>
              </a:solidFill>
              <a:latin typeface="Calibri"/>
            </a:endParaRPr>
          </a:p>
          <a:p>
            <a:pPr lvl="1" marL="685800" indent="-228600">
              <a:lnSpc>
                <a:spcPct val="90000"/>
              </a:lnSpc>
              <a:spcBef>
                <a:spcPts val="10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
                <a:ea typeface="楷体_GB2312"/>
              </a:rPr>
              <a:t>第四节</a:t>
            </a:r>
            <a:r>
              <a:rPr b="1" lang="en-US" sz="2800" spc="-1" strike="noStrike">
                <a:solidFill>
                  <a:srgbClr val="ff0000"/>
                </a:solidFill>
                <a:latin typeface="仿宋"/>
                <a:ea typeface="楷体_GB2312"/>
              </a:rPr>
              <a:t> </a:t>
            </a:r>
            <a:r>
              <a:rPr b="1" lang="zh-CN" sz="2800" spc="-1" strike="noStrike">
                <a:solidFill>
                  <a:srgbClr val="ff0000"/>
                </a:solidFill>
                <a:latin typeface="仿宋"/>
                <a:ea typeface="楷体_GB2312"/>
              </a:rPr>
              <a:t>网络食品经营</a:t>
            </a:r>
            <a:r>
              <a:rPr b="1" lang="zh-CN" sz="2800" spc="-1" strike="noStrike">
                <a:solidFill>
                  <a:srgbClr val="000000"/>
                </a:solidFill>
                <a:latin typeface="仿宋"/>
                <a:ea typeface="楷体_GB2312"/>
              </a:rPr>
              <a:t>（</a:t>
            </a:r>
            <a:r>
              <a:rPr b="1" lang="en-US" sz="2800" spc="-1" strike="noStrike">
                <a:solidFill>
                  <a:srgbClr val="000000"/>
                </a:solidFill>
                <a:latin typeface="仿宋"/>
                <a:ea typeface="楷体_GB2312"/>
              </a:rPr>
              <a:t>4</a:t>
            </a:r>
            <a:r>
              <a:rPr b="1" lang="zh-CN" sz="2800" spc="-1" strike="noStrike">
                <a:solidFill>
                  <a:srgbClr val="000000"/>
                </a:solidFill>
                <a:latin typeface="仿宋"/>
                <a:ea typeface="楷体_GB2312"/>
              </a:rPr>
              <a:t>条）</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0A24D-3248-4385-B55F-953CEB8CF10C}"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195"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196"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93AF9-F06C-4A08-BBC6-1BB177D29F7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97"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73D52-A680-42FB-982E-5614DA22ACA5}"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198"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199"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57B37-1AF6-401E-9B55-654B5276CCD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0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六章 监督管理</a:t>
            </a:r>
            <a:endParaRPr b="0" lang="en-US" sz="4800" spc="-1" strike="noStrike">
              <a:solidFill>
                <a:srgbClr val="000000"/>
              </a:solidFill>
              <a:latin typeface="Calibri Light"/>
            </a:endParaRPr>
          </a:p>
        </p:txBody>
      </p:sp>
      <p:sp>
        <p:nvSpPr>
          <p:cNvPr id="1201" name="PlaceHolder 2"/>
          <p:cNvSpPr>
            <a:spLocks noGrp="1"/>
          </p:cNvSpPr>
          <p:nvPr>
            <p:ph/>
          </p:nvPr>
        </p:nvSpPr>
        <p:spPr>
          <a:xfrm>
            <a:off x="666360" y="1866600"/>
            <a:ext cx="10991880" cy="448956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食品安全信息共享</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食药监、质监、农业、卫计、出入境等部门应当加强监管部门间的信息共享，获知需要统一公布的食品安全信息的，还应当立即向市食药安委报告；</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市食药安委应当及时确定需要公布的食品安全信息，由市食药安办统一公布。</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食药监、质监、农业、卫计、出入境等部门依据各自职责，建立、完善食品安全信息系统，公布食品安全日常监督管理、食品安全违法行为行政处罚等信息。</a:t>
            </a:r>
            <a:r>
              <a:rPr b="1" lang="zh-CN" sz="3200" spc="-1" strike="noStrike">
                <a:solidFill>
                  <a:srgbClr val="000000"/>
                </a:solidFill>
                <a:latin typeface="楷体_GB2312"/>
                <a:ea typeface="楷体_GB2312"/>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4E244-8FF1-43A7-AE25-6C1A988EB8D0}"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203"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204"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4AD18-CC04-4ED9-A2E1-821E8854824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05"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1C68C-4DB1-4606-A366-717F1FADA47C}"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206"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207"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F07B4-8C16-4715-BDB8-CC3E1051F59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六章 监督管理</a:t>
            </a:r>
            <a:endParaRPr b="0" lang="en-US" sz="4800" spc="-1" strike="noStrike">
              <a:solidFill>
                <a:srgbClr val="000000"/>
              </a:solidFill>
              <a:latin typeface="Calibri Light"/>
            </a:endParaRPr>
          </a:p>
        </p:txBody>
      </p:sp>
      <p:sp>
        <p:nvSpPr>
          <p:cNvPr id="1209" name="PlaceHolder 2"/>
          <p:cNvSpPr>
            <a:spLocks noGrp="1"/>
          </p:cNvSpPr>
          <p:nvPr>
            <p:ph/>
          </p:nvPr>
        </p:nvSpPr>
        <p:spPr>
          <a:xfrm>
            <a:off x="666360" y="1866600"/>
            <a:ext cx="10991880" cy="448956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行刑衔接</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对涉嫌构成食品安全犯罪的，食药监、市场监管、质监、农业等部门应当按照有关规定及时将案件移送同级公安机关。</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对移送的案件，公安机关应当及时审查；认为有犯罪事实需要追究刑事责任的，应当立案侦查。</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食药监、市场监管、质监、农业等部门和相关食品检验机构应当按照规定，配合公安机关、人民检察院、人民法院做好涉案食品的处置、检验、评估认定工作。</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91AC9-1BD9-4971-8736-6877BE9A52F9}"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211"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212"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E6A0-378F-48BF-879E-C2F993DD747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13"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64E3E-BF0C-45A2-A653-062ED56AD7F4}"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214"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215"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D8AF-F1E8-4FE6-B847-E80054D59DE1}"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1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七章 法律责任</a:t>
            </a:r>
            <a:endParaRPr b="0" lang="en-US" sz="4800" spc="-1" strike="noStrike">
              <a:solidFill>
                <a:srgbClr val="000000"/>
              </a:solidFill>
              <a:latin typeface="Calibri Light"/>
            </a:endParaRPr>
          </a:p>
        </p:txBody>
      </p:sp>
      <p:sp>
        <p:nvSpPr>
          <p:cNvPr id="1217" name="PlaceHolder 2"/>
          <p:cNvSpPr>
            <a:spLocks noGrp="1"/>
          </p:cNvSpPr>
          <p:nvPr>
            <p:ph/>
          </p:nvPr>
        </p:nvSpPr>
        <p:spPr>
          <a:xfrm>
            <a:off x="666360" y="1752120"/>
            <a:ext cx="10820520" cy="460404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大幅度提高处罚力度</a:t>
            </a:r>
            <a:endParaRPr b="0" lang="en-US" sz="36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行政处罚：最高给予五十万元或者货值金额的三十倍罚款。</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对创设的部分行为规范，从严设定相应的法律责任。</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根据《食品安全法》的授权，对小型餐饮服务提供者、食品加工小作坊、食品摊贩等有关违法行为的处罚作出特别规定。</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AA3C0-463A-4687-80A5-DEBEA4C0AD8A}"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219"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220"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E7AE6-4F85-4CE7-9223-3AB47B84A84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21"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537FF-0D38-479D-B6FB-A0B35126E012}"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222"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223"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09411-1884-4083-B257-A789722815C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2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七章 法律责任</a:t>
            </a:r>
            <a:endParaRPr b="0" lang="en-US" sz="4800" spc="-1" strike="noStrike">
              <a:solidFill>
                <a:srgbClr val="000000"/>
              </a:solidFill>
              <a:latin typeface="Calibri Light"/>
            </a:endParaRPr>
          </a:p>
        </p:txBody>
      </p:sp>
      <p:sp>
        <p:nvSpPr>
          <p:cNvPr id="1225" name="PlaceHolder 2"/>
          <p:cNvSpPr>
            <a:spLocks noGrp="1"/>
          </p:cNvSpPr>
          <p:nvPr>
            <p:ph/>
          </p:nvPr>
        </p:nvSpPr>
        <p:spPr>
          <a:xfrm>
            <a:off x="666360" y="1752120"/>
            <a:ext cx="10820520" cy="460404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0f0a"/>
                </a:solidFill>
                <a:latin typeface="楷体_GB2312"/>
                <a:ea typeface="楷体_GB2312"/>
              </a:rPr>
              <a:t>重点监管名单制度</a:t>
            </a:r>
            <a:endParaRPr b="0" lang="en-US" sz="36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本市建立食品安全严重违法生产经营者与相关责任人员重点监管名单制度。</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对因严重违反食品安全法律、法规、规章，受到行政处罚或者刑事处罚的食品生产经营者及其法定代表人、责任人员的有关信息，以及依法采取的相关限制措施和重点监控措施，向社会公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0A4C7-17BB-426D-A842-D2E84F21213D}"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227"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228"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4803E-533B-4EC9-80AD-4D4F2378840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29"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C9B19-8269-45D6-A2E5-BE1A7F65F693}"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230"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231"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092BB-CD2C-45EC-8C73-77BAAC0C083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3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七章 法律责任</a:t>
            </a:r>
            <a:endParaRPr b="0" lang="en-US" sz="4800" spc="-1" strike="noStrike">
              <a:solidFill>
                <a:srgbClr val="000000"/>
              </a:solidFill>
              <a:latin typeface="Calibri Light"/>
            </a:endParaRPr>
          </a:p>
        </p:txBody>
      </p:sp>
      <p:sp>
        <p:nvSpPr>
          <p:cNvPr id="1233" name="PlaceHolder 2"/>
          <p:cNvSpPr>
            <a:spLocks noGrp="1"/>
          </p:cNvSpPr>
          <p:nvPr>
            <p:ph/>
          </p:nvPr>
        </p:nvSpPr>
        <p:spPr>
          <a:xfrm>
            <a:off x="666360" y="1752120"/>
            <a:ext cx="10820520" cy="460404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禁止入业制度</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对被吊销许可证、准许生产证或者注销临时备案、登记的食品生产经营者及其法定代表人、直接负责的主管人员和其他直接责任人员，自处罚决定作出之日起五年内不得申请食品生产经营许可、食品生产加工小作坊准许生产证、小型餐饮服务提供者临时备案、食品摊贩登记，或者从事食品生产经营管理工作、担任食品生产经营企业食品安全管理人员。</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因食品安全犯罪被判处有期徒刑以上刑罚的，终身不得从事食品生产经营管理工作，也不得担任食品生产经营企业食品安全管理人员。</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5B76E-8680-4463-977B-5BA796A85A8B}"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235"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236"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C63D7-A1C9-48BE-84F9-8AC4CB7EF80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37"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896A5-8DFB-49E7-90EE-F7754A7C736E}"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238"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239"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5CF94-653F-4EA7-AC38-B06F7A71612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4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七章 法律责任</a:t>
            </a:r>
            <a:endParaRPr b="0" lang="en-US" sz="4800" spc="-1" strike="noStrike">
              <a:solidFill>
                <a:srgbClr val="000000"/>
              </a:solidFill>
              <a:latin typeface="Calibri Light"/>
            </a:endParaRPr>
          </a:p>
        </p:txBody>
      </p:sp>
      <p:sp>
        <p:nvSpPr>
          <p:cNvPr id="1241" name="PlaceHolder 2"/>
          <p:cNvSpPr>
            <a:spLocks noGrp="1"/>
          </p:cNvSpPr>
          <p:nvPr>
            <p:ph/>
          </p:nvPr>
        </p:nvSpPr>
        <p:spPr>
          <a:xfrm>
            <a:off x="666360" y="1752120"/>
            <a:ext cx="10820520" cy="460404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0f0a"/>
                </a:solidFill>
                <a:latin typeface="楷体_GB2312"/>
                <a:ea typeface="楷体_GB2312"/>
              </a:rPr>
              <a:t>民事赔偿的首负责任制</a:t>
            </a:r>
            <a:endParaRPr b="0" lang="en-US" sz="36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消费者因不符合食品安全标准的食品受到损害的，可以依法向生产经营者要求赔偿损失。</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接到消费者赔偿要求的生产经营者，应当依法实行首负责任制，先行赔付，不得推诿。</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24AB1-D356-4D29-AD95-B37BE5161E4A}"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243"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244"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E72E4-4196-44DA-9B38-507A8C6B8D1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45"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E9D57-323B-4608-A221-9AD299B5883C}"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246"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247"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8C660-490A-4011-9840-16B0CC6D95E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4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七章 法律责任</a:t>
            </a:r>
            <a:endParaRPr b="0" lang="en-US" sz="4800" spc="-1" strike="noStrike">
              <a:solidFill>
                <a:srgbClr val="000000"/>
              </a:solidFill>
              <a:latin typeface="Calibri Light"/>
            </a:endParaRPr>
          </a:p>
        </p:txBody>
      </p:sp>
      <p:sp>
        <p:nvSpPr>
          <p:cNvPr id="1249" name="PlaceHolder 2"/>
          <p:cNvSpPr>
            <a:spLocks noGrp="1"/>
          </p:cNvSpPr>
          <p:nvPr>
            <p:ph/>
          </p:nvPr>
        </p:nvSpPr>
        <p:spPr>
          <a:xfrm>
            <a:off x="666360" y="1752120"/>
            <a:ext cx="10820520" cy="460404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0f0a"/>
                </a:solidFill>
                <a:latin typeface="楷体_GB2312"/>
                <a:ea typeface="楷体_GB2312"/>
              </a:rPr>
              <a:t>免责情形</a:t>
            </a:r>
            <a:endParaRPr b="0" lang="en-US" sz="36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食品经营者履行了《食品安全法》等法律、法规规定的进货查验等义务，并有证据证明其不知道所采购的食品不符合食品安全标准，且能如实说明其进货来源的，可以免予处罚；</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但应当依法没收其不符合食品安全标准的食品；造成人身、财产或者其他损害的，依法承担赔偿责任；</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680FD-D0BB-47F4-9D9E-5B9CBAE18196}"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251"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252"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34126-159F-481D-BD02-97774DB2535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53"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7BFE5-8246-46CE-9759-6114C21F2294}"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254"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255"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C6F31-248B-47F7-B90B-C0525CFE38E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七章 法律责任</a:t>
            </a:r>
            <a:endParaRPr b="0" lang="en-US" sz="4800" spc="-1" strike="noStrike">
              <a:solidFill>
                <a:srgbClr val="000000"/>
              </a:solidFill>
              <a:latin typeface="Calibri Light"/>
            </a:endParaRPr>
          </a:p>
        </p:txBody>
      </p:sp>
      <p:sp>
        <p:nvSpPr>
          <p:cNvPr id="1257" name="PlaceHolder 2"/>
          <p:cNvSpPr>
            <a:spLocks noGrp="1"/>
          </p:cNvSpPr>
          <p:nvPr>
            <p:ph/>
          </p:nvPr>
        </p:nvSpPr>
        <p:spPr>
          <a:xfrm>
            <a:off x="666360" y="1752120"/>
            <a:ext cx="10820520" cy="460404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0f0a"/>
                </a:solidFill>
                <a:latin typeface="楷体_GB2312"/>
                <a:ea typeface="楷体_GB2312"/>
              </a:rPr>
              <a:t>免责条件</a:t>
            </a:r>
            <a:endParaRPr b="0" lang="en-US" sz="36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进货渠道合法，提供的食品生产经营许可证、合格证明、销售票据等真实、有效；</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采购与收货记录、入库检查验收记录真实完整；</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储存、销售、出库复核、运输未违反有关规定且相关记录真实完整。</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09B51-767E-4A96-96E0-06289A22F028}"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259"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260"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ECBE1-5FE9-4C56-9CAD-B87364F83D7E}"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61"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A2C71-DA9F-494C-AA2D-96A05BB35C03}"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262"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263"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987DB-CA8A-4E10-89BA-7A2D6274B45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七章 法律责任</a:t>
            </a:r>
            <a:endParaRPr b="0" lang="en-US" sz="4800" spc="-1" strike="noStrike">
              <a:solidFill>
                <a:srgbClr val="000000"/>
              </a:solidFill>
              <a:latin typeface="Calibri Light"/>
            </a:endParaRPr>
          </a:p>
        </p:txBody>
      </p:sp>
      <p:sp>
        <p:nvSpPr>
          <p:cNvPr id="1265" name="PlaceHolder 2"/>
          <p:cNvSpPr>
            <a:spLocks noGrp="1"/>
          </p:cNvSpPr>
          <p:nvPr>
            <p:ph/>
          </p:nvPr>
        </p:nvSpPr>
        <p:spPr>
          <a:xfrm>
            <a:off x="609120" y="1523880"/>
            <a:ext cx="10820520" cy="489600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引咎辞职</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市、区政府未依法履行食品安全监管法定职责，对有关食品安全事故、问题应对和处置不力的，依法对直接负责的主管人员和其他直接责任人员给予记大过、降级、撤职或者开除的处分；造成严重后果的，其主要负责人还应当依法引咎辞职。</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食药监、市场监管、质监、农业等部门未依法履行食品安全监管法定职责或者日常监督检查不到位，滥用职权、玩忽职守、徇私舞弊的，依法对直接负责的主管人员和其他直接责任人员给予警告、记过、记大过、降级、撤职或者开除的处分；造成严重后果的，其主要负责人还应当依法引咎辞职。</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D603F-25D1-4ECD-81D4-BC671E84BFB5}" type="datetime">
              <a:rPr b="0" lang="zh-CN" sz="1200" spc="-1" strike="noStrike">
                <a:solidFill>
                  <a:srgbClr val="000000"/>
                </a:solidFill>
                <a:latin typeface="Tahoma"/>
              </a:rPr>
              <a:t>26/7/31</a:t>
            </a:fld>
            <a:endParaRPr b="0" lang="en-US" sz="1200" spc="-1" strike="noStrike">
              <a:solidFill>
                <a:srgbClr val="000000"/>
              </a:solidFill>
              <a:latin typeface="Calibri"/>
            </a:endParaRPr>
          </a:p>
        </p:txBody>
      </p:sp>
      <p:sp>
        <p:nvSpPr>
          <p:cNvPr id="1267"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上海市食品药品监督管理局</a:t>
            </a:r>
            <a:endParaRPr b="0" lang="en-US" sz="1200" spc="-1" strike="noStrike">
              <a:solidFill>
                <a:srgbClr val="000000"/>
              </a:solidFill>
              <a:latin typeface="Calibri"/>
            </a:endParaRPr>
          </a:p>
        </p:txBody>
      </p:sp>
      <p:sp>
        <p:nvSpPr>
          <p:cNvPr id="1268"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85961-E673-435B-A6C5-652F2F46976C}" type="slidenum">
              <a:rPr b="0" lang="zh-CN" sz="1200" spc="-1" strike="noStrike">
                <a:solidFill>
                  <a:srgbClr val="000000"/>
                </a:solidFill>
                <a:latin typeface="Tahoma"/>
              </a:rPr>
              <a:t>&lt;number&gt;</a:t>
            </a:fld>
            <a:endParaRPr b="0" lang="en-US" sz="1200" spc="-1" strike="noStrike">
              <a:solidFill>
                <a:srgbClr val="000000"/>
              </a:solidFill>
              <a:latin typeface="Calibri"/>
            </a:endParaRPr>
          </a:p>
        </p:txBody>
      </p:sp>
      <p:sp>
        <p:nvSpPr>
          <p:cNvPr id="1269" name="PlaceHolder 1"/>
          <p:cNvSpPr>
            <a:spLocks noGrp="1"/>
          </p:cNvSpPr>
          <p:nvPr>
            <p:ph type="title"/>
          </p:nvPr>
        </p:nvSpPr>
        <p:spPr>
          <a:xfrm>
            <a:off x="1828800" y="2133720"/>
            <a:ext cx="8609040" cy="210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仿宋_GB2312"/>
                <a:ea typeface="楷体_GB2312"/>
              </a:rPr>
              <a:t>感谢聆听！</a:t>
            </a:r>
            <a:br>
              <a:rPr sz="6000"/>
            </a:br>
            <a:r>
              <a:rPr b="1" lang="zh-CN" sz="6000" spc="-1" strike="noStrike">
                <a:solidFill>
                  <a:srgbClr val="000000"/>
                </a:solidFill>
                <a:latin typeface="仿宋_GB2312"/>
                <a:ea typeface="楷体_GB2312"/>
              </a:rPr>
              <a:t>敬请指导！</a:t>
            </a:r>
            <a:endParaRPr b="0" lang="en-US" sz="60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9BB9E-A4D5-4870-9AD0-29DB9537B58B}"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484"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485"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B5700-A101-4337-B2DE-16739964CEA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86"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C25C1-2D6A-4F3E-9E3F-EC51CD73D2FF}"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487"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488"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D0395-6DD3-49C8-8059-19B67159575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8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框架结构</a:t>
            </a:r>
            <a:endParaRPr b="0" lang="en-US" sz="4800" spc="-1" strike="noStrike">
              <a:solidFill>
                <a:srgbClr val="000000"/>
              </a:solidFill>
              <a:latin typeface="Calibri Light"/>
            </a:endParaRPr>
          </a:p>
        </p:txBody>
      </p:sp>
      <p:sp>
        <p:nvSpPr>
          <p:cNvPr id="490" name="PlaceHolder 2"/>
          <p:cNvSpPr>
            <a:spLocks noGrp="1"/>
          </p:cNvSpPr>
          <p:nvPr>
            <p:ph/>
          </p:nvPr>
        </p:nvSpPr>
        <p:spPr>
          <a:xfrm>
            <a:off x="666720" y="1695240"/>
            <a:ext cx="11010960" cy="4660920"/>
          </a:xfrm>
          <a:prstGeom prst="rect">
            <a:avLst/>
          </a:prstGeom>
          <a:noFill/>
          <a:ln w="0">
            <a:noFill/>
          </a:ln>
        </p:spPr>
        <p:txBody>
          <a:bodyPr anchor="t">
            <a:normAutofit fontScale="98000"/>
          </a:bodyPr>
          <a:p>
            <a:pPr marL="223920" indent="-2239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楷体_GB2312"/>
              </a:rPr>
              <a:t>第四章 食品生产加工小作坊和食品摊贩（</a:t>
            </a:r>
            <a:r>
              <a:rPr b="1" lang="en-US" sz="2800" spc="-1" strike="noStrike">
                <a:solidFill>
                  <a:srgbClr val="000000"/>
                </a:solidFill>
                <a:latin typeface="仿宋"/>
                <a:ea typeface="楷体_GB2312"/>
              </a:rPr>
              <a:t>12</a:t>
            </a:r>
            <a:r>
              <a:rPr b="1" lang="zh-CN" sz="2800" spc="-1" strike="noStrike">
                <a:solidFill>
                  <a:srgbClr val="000000"/>
                </a:solidFill>
                <a:latin typeface="仿宋"/>
                <a:ea typeface="楷体_GB2312"/>
              </a:rPr>
              <a:t>条）</a:t>
            </a:r>
            <a:endParaRPr b="0" lang="en-US" sz="2800" spc="-1" strike="noStrike">
              <a:solidFill>
                <a:srgbClr val="000000"/>
              </a:solidFill>
              <a:latin typeface="Calibri"/>
            </a:endParaRPr>
          </a:p>
          <a:p>
            <a:pPr lvl="1" marL="671760" indent="-2239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楷体_GB2312"/>
              </a:rPr>
              <a:t>第一节 食品生产加工小作坊（</a:t>
            </a:r>
            <a:r>
              <a:rPr b="1" lang="en-US" sz="2800" spc="-1" strike="noStrike">
                <a:solidFill>
                  <a:srgbClr val="000000"/>
                </a:solidFill>
                <a:latin typeface="仿宋"/>
                <a:ea typeface="楷体_GB2312"/>
              </a:rPr>
              <a:t>7</a:t>
            </a:r>
            <a:r>
              <a:rPr b="1" lang="zh-CN" sz="2800" spc="-1" strike="noStrike">
                <a:solidFill>
                  <a:srgbClr val="000000"/>
                </a:solidFill>
                <a:latin typeface="仿宋"/>
                <a:ea typeface="楷体_GB2312"/>
              </a:rPr>
              <a:t>条）</a:t>
            </a:r>
            <a:endParaRPr b="0" lang="en-US" sz="2800" spc="-1" strike="noStrike">
              <a:solidFill>
                <a:srgbClr val="000000"/>
              </a:solidFill>
              <a:latin typeface="Calibri"/>
            </a:endParaRPr>
          </a:p>
          <a:p>
            <a:pPr lvl="1" marL="671760" indent="-2239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楷体_GB2312"/>
              </a:rPr>
              <a:t>第二节食品摊贩（</a:t>
            </a:r>
            <a:r>
              <a:rPr b="1" lang="en-US" sz="2800" spc="-1" strike="noStrike">
                <a:solidFill>
                  <a:srgbClr val="000000"/>
                </a:solidFill>
                <a:latin typeface="仿宋"/>
                <a:ea typeface="楷体_GB2312"/>
              </a:rPr>
              <a:t>5</a:t>
            </a:r>
            <a:r>
              <a:rPr b="1" lang="zh-CN" sz="2800" spc="-1" strike="noStrike">
                <a:solidFill>
                  <a:srgbClr val="000000"/>
                </a:solidFill>
                <a:latin typeface="仿宋"/>
                <a:ea typeface="楷体_GB2312"/>
              </a:rPr>
              <a:t>条）</a:t>
            </a:r>
            <a:endParaRPr b="0" lang="en-US" sz="2800" spc="-1" strike="noStrike">
              <a:solidFill>
                <a:srgbClr val="000000"/>
              </a:solidFill>
              <a:latin typeface="Calibri"/>
            </a:endParaRPr>
          </a:p>
          <a:p>
            <a:pPr marL="223920" indent="-223920">
              <a:lnSpc>
                <a:spcPct val="90000"/>
              </a:lnSpc>
              <a:spcBef>
                <a:spcPts val="1049"/>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仿宋"/>
                <a:ea typeface="楷体_GB2312"/>
              </a:rPr>
              <a:t>第五章 食品安全事故预防与处置</a:t>
            </a:r>
            <a:r>
              <a:rPr b="1" lang="zh-CN" sz="2800" spc="-1" strike="noStrike">
                <a:solidFill>
                  <a:srgbClr val="000000"/>
                </a:solidFill>
                <a:latin typeface="仿宋"/>
                <a:ea typeface="楷体_GB2312"/>
              </a:rPr>
              <a:t>（</a:t>
            </a:r>
            <a:r>
              <a:rPr b="1" lang="en-US" sz="2800" spc="-1" strike="noStrike">
                <a:solidFill>
                  <a:srgbClr val="000000"/>
                </a:solidFill>
                <a:latin typeface="仿宋"/>
                <a:ea typeface="楷体_GB2312"/>
              </a:rPr>
              <a:t>8</a:t>
            </a:r>
            <a:r>
              <a:rPr b="1" lang="zh-CN" sz="2800" spc="-1" strike="noStrike">
                <a:solidFill>
                  <a:srgbClr val="000000"/>
                </a:solidFill>
                <a:latin typeface="仿宋"/>
                <a:ea typeface="楷体_GB2312"/>
              </a:rPr>
              <a:t>条）</a:t>
            </a:r>
            <a:endParaRPr b="0" lang="en-US" sz="2800" spc="-1" strike="noStrike">
              <a:solidFill>
                <a:srgbClr val="000000"/>
              </a:solidFill>
              <a:latin typeface="Calibri"/>
            </a:endParaRPr>
          </a:p>
          <a:p>
            <a:pPr marL="223920" indent="-2239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楷体_GB2312"/>
              </a:rPr>
              <a:t>第六章 监督管理（</a:t>
            </a:r>
            <a:r>
              <a:rPr b="1" lang="en-US" sz="2800" spc="-1" strike="noStrike">
                <a:solidFill>
                  <a:srgbClr val="000000"/>
                </a:solidFill>
                <a:latin typeface="仿宋"/>
                <a:ea typeface="楷体_GB2312"/>
              </a:rPr>
              <a:t>14</a:t>
            </a:r>
            <a:r>
              <a:rPr b="1" lang="zh-CN" sz="2800" spc="-1" strike="noStrike">
                <a:solidFill>
                  <a:srgbClr val="000000"/>
                </a:solidFill>
                <a:latin typeface="仿宋"/>
                <a:ea typeface="楷体_GB2312"/>
              </a:rPr>
              <a:t>条）</a:t>
            </a:r>
            <a:endParaRPr b="0" lang="en-US" sz="2800" spc="-1" strike="noStrike">
              <a:solidFill>
                <a:srgbClr val="000000"/>
              </a:solidFill>
              <a:latin typeface="Calibri"/>
            </a:endParaRPr>
          </a:p>
          <a:p>
            <a:pPr marL="223920" indent="-2239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楷体_GB2312"/>
              </a:rPr>
              <a:t>第七章 法律责任（</a:t>
            </a:r>
            <a:r>
              <a:rPr b="1" lang="en-US" sz="2800" spc="-1" strike="noStrike">
                <a:solidFill>
                  <a:srgbClr val="000000"/>
                </a:solidFill>
                <a:latin typeface="仿宋"/>
                <a:ea typeface="楷体_GB2312"/>
              </a:rPr>
              <a:t>25</a:t>
            </a:r>
            <a:r>
              <a:rPr b="1" lang="zh-CN" sz="2800" spc="-1" strike="noStrike">
                <a:solidFill>
                  <a:srgbClr val="000000"/>
                </a:solidFill>
                <a:latin typeface="仿宋"/>
                <a:ea typeface="楷体_GB2312"/>
              </a:rPr>
              <a:t>条）</a:t>
            </a:r>
            <a:endParaRPr b="0" lang="en-US" sz="2800" spc="-1" strike="noStrike">
              <a:solidFill>
                <a:srgbClr val="000000"/>
              </a:solidFill>
              <a:latin typeface="Calibri"/>
            </a:endParaRPr>
          </a:p>
          <a:p>
            <a:pPr marL="223920" indent="-2239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楷体_GB2312"/>
              </a:rPr>
              <a:t>第八章 附则（</a:t>
            </a:r>
            <a:r>
              <a:rPr b="1" lang="en-US" sz="2800" spc="-1" strike="noStrike">
                <a:solidFill>
                  <a:srgbClr val="000000"/>
                </a:solidFill>
                <a:latin typeface="仿宋"/>
                <a:ea typeface="楷体_GB2312"/>
              </a:rPr>
              <a:t>2</a:t>
            </a:r>
            <a:r>
              <a:rPr b="1" lang="zh-CN" sz="2800" spc="-1" strike="noStrike">
                <a:solidFill>
                  <a:srgbClr val="000000"/>
                </a:solidFill>
                <a:latin typeface="仿宋"/>
                <a:ea typeface="楷体_GB2312"/>
              </a:rPr>
              <a:t>条）</a:t>
            </a:r>
            <a:endParaRPr b="0" lang="en-US" sz="2800" spc="-1" strike="noStrike">
              <a:solidFill>
                <a:srgbClr val="000000"/>
              </a:solidFill>
              <a:latin typeface="Calibri"/>
            </a:endParaRPr>
          </a:p>
          <a:p>
            <a:pPr marL="223920" indent="-22392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仿宋"/>
                <a:ea typeface="楷体_GB2312"/>
              </a:rPr>
              <a:t>条文从</a:t>
            </a:r>
            <a:r>
              <a:rPr b="1" lang="en-US" sz="3200" spc="-1" strike="noStrike">
                <a:solidFill>
                  <a:srgbClr val="ea0f0a"/>
                </a:solidFill>
                <a:latin typeface="仿宋"/>
                <a:ea typeface="楷体_GB2312"/>
              </a:rPr>
              <a:t>62</a:t>
            </a:r>
            <a:r>
              <a:rPr b="1" lang="zh-CN" sz="3200" spc="-1" strike="noStrike">
                <a:solidFill>
                  <a:srgbClr val="ea0f0a"/>
                </a:solidFill>
                <a:latin typeface="仿宋"/>
                <a:ea typeface="楷体_GB2312"/>
              </a:rPr>
              <a:t>条增加到</a:t>
            </a:r>
            <a:r>
              <a:rPr b="1" lang="en-US" sz="3200" spc="-1" strike="noStrike">
                <a:solidFill>
                  <a:srgbClr val="ea0f0a"/>
                </a:solidFill>
                <a:latin typeface="仿宋"/>
                <a:ea typeface="楷体_GB2312"/>
              </a:rPr>
              <a:t>115</a:t>
            </a:r>
            <a:r>
              <a:rPr b="1" lang="zh-CN" sz="3200" spc="-1" strike="noStrike">
                <a:solidFill>
                  <a:srgbClr val="ea0f0a"/>
                </a:solidFill>
                <a:latin typeface="仿宋"/>
                <a:ea typeface="楷体_GB2312"/>
              </a:rPr>
              <a:t>条</a:t>
            </a:r>
            <a:endParaRPr b="0" lang="en-US" sz="3200" spc="-1" strike="noStrike">
              <a:solidFill>
                <a:srgbClr val="000000"/>
              </a:solidFill>
              <a:latin typeface="Calibri"/>
            </a:endParaRPr>
          </a:p>
          <a:p>
            <a:pPr lvl="1" marL="671760" indent="-22392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楷体_GB2312"/>
              </a:rPr>
              <a:t>全新条文</a:t>
            </a:r>
            <a:r>
              <a:rPr b="1" lang="en-US" sz="2800" spc="-1" strike="noStrike">
                <a:solidFill>
                  <a:srgbClr val="000000"/>
                </a:solidFill>
                <a:latin typeface="仿宋"/>
                <a:ea typeface="楷体_GB2312"/>
              </a:rPr>
              <a:t>53</a:t>
            </a:r>
            <a:r>
              <a:rPr b="1" lang="zh-CN" sz="2800" spc="-1" strike="noStrike">
                <a:solidFill>
                  <a:srgbClr val="000000"/>
                </a:solidFill>
                <a:latin typeface="仿宋"/>
                <a:ea typeface="楷体_GB2312"/>
              </a:rPr>
              <a:t>条，修改条文</a:t>
            </a:r>
            <a:r>
              <a:rPr b="1" lang="en-US" sz="2800" spc="-1" strike="noStrike">
                <a:solidFill>
                  <a:srgbClr val="000000"/>
                </a:solidFill>
                <a:latin typeface="仿宋"/>
                <a:ea typeface="楷体_GB2312"/>
              </a:rPr>
              <a:t>52</a:t>
            </a:r>
            <a:r>
              <a:rPr b="1" lang="zh-CN" sz="2800" spc="-1" strike="noStrike">
                <a:solidFill>
                  <a:srgbClr val="000000"/>
                </a:solidFill>
                <a:latin typeface="仿宋"/>
                <a:ea typeface="楷体_GB2312"/>
              </a:rPr>
              <a:t>条，</a:t>
            </a:r>
            <a:r>
              <a:rPr b="1" lang="zh-CN" sz="2800" spc="-1" strike="noStrike">
                <a:solidFill>
                  <a:srgbClr val="ea0f0a"/>
                </a:solidFill>
                <a:latin typeface="仿宋"/>
                <a:ea typeface="楷体_GB2312"/>
              </a:rPr>
              <a:t>修订幅度达</a:t>
            </a:r>
            <a:r>
              <a:rPr b="1" lang="en-US" sz="2800" spc="-1" strike="noStrike">
                <a:solidFill>
                  <a:srgbClr val="ea0f0a"/>
                </a:solidFill>
                <a:latin typeface="仿宋"/>
                <a:ea typeface="楷体_GB2312"/>
              </a:rPr>
              <a:t>93.8%</a:t>
            </a:r>
            <a:r>
              <a:rPr b="1" lang="zh-CN" sz="2800" spc="-1" strike="noStrike">
                <a:solidFill>
                  <a:srgbClr val="000000"/>
                </a:solidFill>
                <a:latin typeface="仿宋"/>
                <a:ea typeface="楷体_GB2312"/>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D1EC7-8C06-4D4A-AE7C-E0A13E36046E}"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492"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493"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69DF6-CE41-4DE4-B3DD-DBD369BBEAC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94"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EEAC6-A37F-4FF2-B8BE-262157302C80}"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495"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496"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9D757-E0B6-4A92-9863-A4F4CFCC848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97" name="PlaceHolder 1"/>
          <p:cNvSpPr>
            <a:spLocks noGrp="1"/>
          </p:cNvSpPr>
          <p:nvPr>
            <p:ph type="title"/>
          </p:nvPr>
        </p:nvSpPr>
        <p:spPr>
          <a:xfrm>
            <a:off x="933480" y="225108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三、主要条款解读</a:t>
            </a:r>
            <a:endParaRPr b="0" lang="en-US" sz="48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62221-E7F0-477D-BD1B-623BA7E4CBB8}"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499"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500"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3D92C-6B5A-4AFD-9F48-83E967FC44B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01"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8E8BA-7EDC-4D8F-A436-4BF727D917F9}"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502"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503"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31B2F-7725-4777-A7DC-967108F3BD8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0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一章 总则 管辖范围</a:t>
            </a:r>
            <a:endParaRPr b="0" lang="en-US" sz="4800" spc="-1" strike="noStrike">
              <a:solidFill>
                <a:srgbClr val="000000"/>
              </a:solidFill>
              <a:latin typeface="Calibri Light"/>
            </a:endParaRPr>
          </a:p>
        </p:txBody>
      </p:sp>
      <p:sp>
        <p:nvSpPr>
          <p:cNvPr id="505" name="PlaceHolder 2"/>
          <p:cNvSpPr>
            <a:spLocks noGrp="1"/>
          </p:cNvSpPr>
          <p:nvPr>
            <p:ph/>
          </p:nvPr>
        </p:nvSpPr>
        <p:spPr>
          <a:xfrm>
            <a:off x="666360" y="2017800"/>
            <a:ext cx="10820520" cy="4338720"/>
          </a:xfrm>
          <a:prstGeom prst="rect">
            <a:avLst/>
          </a:prstGeom>
          <a:noFill/>
          <a:ln w="0">
            <a:noFill/>
          </a:ln>
        </p:spPr>
        <p:txBody>
          <a:bodyPr anchor="t">
            <a:normAutofit/>
          </a:bodyPr>
          <a:p>
            <a:pPr marL="228600" indent="-228600">
              <a:lnSpc>
                <a:spcPct val="10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管辖范围</a:t>
            </a:r>
            <a:endParaRPr b="0" lang="en-US" sz="3200" spc="-1" strike="noStrike">
              <a:solidFill>
                <a:srgbClr val="000000"/>
              </a:solidFill>
              <a:latin typeface="Calibri"/>
            </a:endParaRPr>
          </a:p>
          <a:p>
            <a:pPr lvl="1" marL="685800" indent="-228600">
              <a:lnSpc>
                <a:spcPct val="10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食品、食品添加剂、食品相关产品的生产经营；</a:t>
            </a:r>
            <a:endParaRPr b="0" lang="en-US" sz="2800" spc="-1" strike="noStrike">
              <a:solidFill>
                <a:srgbClr val="000000"/>
              </a:solidFill>
              <a:latin typeface="Calibri"/>
            </a:endParaRPr>
          </a:p>
          <a:p>
            <a:pPr lvl="1" marL="685800" indent="-228600">
              <a:lnSpc>
                <a:spcPct val="10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食品生产经营者使用食品添加剂、食品相关产品，食品的贮存和运输；</a:t>
            </a:r>
            <a:endParaRPr b="0" lang="en-US" sz="2800" spc="-1" strike="noStrike">
              <a:solidFill>
                <a:srgbClr val="000000"/>
              </a:solidFill>
              <a:latin typeface="Calibri"/>
            </a:endParaRPr>
          </a:p>
          <a:p>
            <a:pPr lvl="1" marL="685800" indent="-228600">
              <a:lnSpc>
                <a:spcPct val="10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食品、食品添加剂、食品相关产品的安全管理；</a:t>
            </a:r>
            <a:endParaRPr b="0" lang="en-US" sz="2800" spc="-1" strike="noStrike">
              <a:solidFill>
                <a:srgbClr val="000000"/>
              </a:solidFill>
              <a:latin typeface="Calibri"/>
            </a:endParaRPr>
          </a:p>
          <a:p>
            <a:pPr lvl="1" marL="685800" indent="-228600">
              <a:lnSpc>
                <a:spcPct val="10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本市行政区域内食用农产品的生产、贮存和运输、市场销售，农业投入品的经营、使用。</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996D3-428A-40B5-8EDA-B7F465AF0AB2}"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507"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508"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CE5D-7E42-4E01-BF38-AC92AC90CF6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09"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BA264-26A1-439D-804E-A77020A6064A}"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510"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511"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39702-077A-4AA1-9B09-A72A046D846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一章 总则 工作原则</a:t>
            </a:r>
            <a:endParaRPr b="0" lang="en-US" sz="4800" spc="-1" strike="noStrike">
              <a:solidFill>
                <a:srgbClr val="000000"/>
              </a:solidFill>
              <a:latin typeface="Calibri Light"/>
            </a:endParaRPr>
          </a:p>
        </p:txBody>
      </p:sp>
      <p:sp>
        <p:nvSpPr>
          <p:cNvPr id="513" name="PlaceHolder 2"/>
          <p:cNvSpPr>
            <a:spLocks noGrp="1"/>
          </p:cNvSpPr>
          <p:nvPr>
            <p:ph/>
          </p:nvPr>
        </p:nvSpPr>
        <p:spPr>
          <a:xfrm>
            <a:off x="666360" y="2017800"/>
            <a:ext cx="10820520" cy="4338720"/>
          </a:xfrm>
          <a:prstGeom prst="rect">
            <a:avLst/>
          </a:prstGeom>
          <a:noFill/>
          <a:ln w="0">
            <a:noFill/>
          </a:ln>
        </p:spPr>
        <p:txBody>
          <a:bodyPr anchor="t">
            <a:normAutofit/>
          </a:bodyPr>
          <a:p>
            <a:pPr marL="228600" indent="-228600">
              <a:lnSpc>
                <a:spcPct val="15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0f0a"/>
                </a:solidFill>
                <a:latin typeface="楷体_GB2312"/>
                <a:ea typeface="楷体_GB2312"/>
              </a:rPr>
              <a:t>工作原则</a:t>
            </a:r>
            <a:endParaRPr b="0" lang="en-US" sz="3600" spc="-1" strike="noStrike">
              <a:solidFill>
                <a:srgbClr val="000000"/>
              </a:solidFill>
              <a:latin typeface="Calibri"/>
            </a:endParaRPr>
          </a:p>
          <a:p>
            <a:pPr lvl="1" marL="685800" indent="-228600">
              <a:lnSpc>
                <a:spcPct val="15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食品安全工作实行预防为主、风险管理、全程控制、属地监管、部门协作、社会共治的原则</a:t>
            </a:r>
            <a:endParaRPr b="0" lang="en-US" sz="3200" spc="-1" strike="noStrike">
              <a:solidFill>
                <a:srgbClr val="000000"/>
              </a:solidFill>
              <a:latin typeface="Calibri"/>
            </a:endParaRPr>
          </a:p>
          <a:p>
            <a:pPr lvl="1" marL="685800" indent="-228600">
              <a:lnSpc>
                <a:spcPct val="15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建立和完善科学、严格的监督管理制度。</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FFD92-8FE1-4E42-A1CC-3B54EF5B8497}"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515"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516"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A3F76-0ECB-4E9D-8E78-FE685B122DD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17"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1AB05-0927-4D79-B816-4DFA93C3B78C}"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518"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519"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2AF07-BE91-4461-9C94-9FB3ED97E68E}"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2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一章 总则 企业主体责任</a:t>
            </a:r>
            <a:endParaRPr b="0" lang="en-US" sz="4800" spc="-1" strike="noStrike">
              <a:solidFill>
                <a:srgbClr val="000000"/>
              </a:solidFill>
              <a:latin typeface="Calibri Light"/>
            </a:endParaRPr>
          </a:p>
        </p:txBody>
      </p:sp>
      <p:sp>
        <p:nvSpPr>
          <p:cNvPr id="521" name="PlaceHolder 2"/>
          <p:cNvSpPr>
            <a:spLocks noGrp="1"/>
          </p:cNvSpPr>
          <p:nvPr>
            <p:ph/>
          </p:nvPr>
        </p:nvSpPr>
        <p:spPr>
          <a:xfrm>
            <a:off x="666720" y="2017800"/>
            <a:ext cx="1101096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食品生产经营者对其生产经营食品的安全负责。</a:t>
            </a:r>
            <a:endParaRPr b="0" lang="en-US" sz="2800" spc="-1" strike="noStrike">
              <a:solidFill>
                <a:srgbClr val="000000"/>
              </a:solidFill>
              <a:latin typeface="Calibri"/>
            </a:endParaRPr>
          </a:p>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食品生产经营者应当依照法律、法规、规章和食品安全标准从事生产经营活动；</a:t>
            </a:r>
            <a:endParaRPr b="0" lang="en-US" sz="2800" spc="-1" strike="noStrike">
              <a:solidFill>
                <a:srgbClr val="000000"/>
              </a:solidFill>
              <a:latin typeface="Calibri"/>
            </a:endParaRPr>
          </a:p>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建立健全食品安全管理制度，</a:t>
            </a:r>
            <a:r>
              <a:rPr b="1" lang="zh-CN" sz="2800" spc="-1" strike="noStrike">
                <a:solidFill>
                  <a:srgbClr val="ea0f0a"/>
                </a:solidFill>
                <a:latin typeface="楷体_GB2312"/>
                <a:ea typeface="楷体_GB2312"/>
              </a:rPr>
              <a:t>采取有效措施预防和控制食品安全风险，保证食品安全；</a:t>
            </a:r>
            <a:endParaRPr b="0" lang="en-US" sz="2800" spc="-1" strike="noStrike">
              <a:solidFill>
                <a:srgbClr val="000000"/>
              </a:solidFill>
              <a:latin typeface="Calibri"/>
            </a:endParaRPr>
          </a:p>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诚信自律，主动公开相关信息，</a:t>
            </a:r>
            <a:r>
              <a:rPr b="1" lang="zh-CN" sz="2800" spc="-1" strike="noStrike">
                <a:solidFill>
                  <a:srgbClr val="000000"/>
                </a:solidFill>
                <a:latin typeface="楷体_GB2312"/>
                <a:ea typeface="楷体_GB2312"/>
              </a:rPr>
              <a:t>对社会和公众负责；</a:t>
            </a:r>
            <a:endParaRPr b="0" lang="en-US" sz="2800" spc="-1" strike="noStrike">
              <a:solidFill>
                <a:srgbClr val="000000"/>
              </a:solidFill>
              <a:latin typeface="Calibri"/>
            </a:endParaRPr>
          </a:p>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接受社会监督，承担社会责任。</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B0AC2-6B5E-45AF-A2F0-7E2CD8406BB5}"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523"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524"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201C9-50FA-45D1-8470-2F356ABC25D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25"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E44E8-98A2-40BF-BE0B-A58258C2FD87}"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526"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527"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F7945-9A95-47D7-862A-EA3F17A75D7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2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一章 总则  政府职责</a:t>
            </a:r>
            <a:endParaRPr b="0" lang="en-US" sz="4800" spc="-1" strike="noStrike">
              <a:solidFill>
                <a:srgbClr val="000000"/>
              </a:solidFill>
              <a:latin typeface="Calibri Light"/>
            </a:endParaRPr>
          </a:p>
        </p:txBody>
      </p:sp>
      <p:sp>
        <p:nvSpPr>
          <p:cNvPr id="529" name="PlaceHolder 2"/>
          <p:cNvSpPr>
            <a:spLocks noGrp="1"/>
          </p:cNvSpPr>
          <p:nvPr>
            <p:ph/>
          </p:nvPr>
        </p:nvSpPr>
        <p:spPr>
          <a:xfrm>
            <a:off x="666360" y="2017800"/>
            <a:ext cx="10820520" cy="4338720"/>
          </a:xfrm>
          <a:prstGeom prst="rect">
            <a:avLst/>
          </a:prstGeom>
          <a:noFill/>
          <a:ln w="0">
            <a:noFill/>
          </a:ln>
        </p:spPr>
        <p:txBody>
          <a:bodyPr anchor="t">
            <a:normAutofit/>
          </a:bodyPr>
          <a:p>
            <a:pPr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市、区人民政府</a:t>
            </a:r>
            <a:endParaRPr b="0" lang="en-US" sz="3200" spc="-1" strike="noStrike">
              <a:solidFill>
                <a:srgbClr val="000000"/>
              </a:solidFill>
              <a:latin typeface="Calibri"/>
            </a:endParaRPr>
          </a:p>
          <a:p>
            <a:pPr lvl="1" marL="685800" indent="-228600">
              <a:lnSpc>
                <a:spcPct val="10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对本行政区域的食品安全监督管理工作负责，</a:t>
            </a:r>
            <a:r>
              <a:rPr b="1" lang="zh-CN" sz="2800" spc="-1" strike="noStrike">
                <a:solidFill>
                  <a:srgbClr val="000000"/>
                </a:solidFill>
                <a:latin typeface="楷体_GB2312"/>
                <a:ea typeface="楷体_GB2312"/>
              </a:rPr>
              <a:t>统一领导、组织、协调本行政区域的食品安全监督管理工作以及食品安全突发事件应对工作，建立健全食品安全全程监督管理工作机制和信息共享机制。</a:t>
            </a:r>
            <a:endParaRPr b="0" lang="en-US" sz="2800" spc="-1" strike="noStrike">
              <a:solidFill>
                <a:srgbClr val="000000"/>
              </a:solidFill>
              <a:latin typeface="Calibri"/>
            </a:endParaRPr>
          </a:p>
          <a:p>
            <a:pPr marL="228600" indent="-228600">
              <a:lnSpc>
                <a:spcPct val="10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区人民政府</a:t>
            </a:r>
            <a:endParaRPr b="0" lang="en-US" sz="3200" spc="-1" strike="noStrike">
              <a:solidFill>
                <a:srgbClr val="000000"/>
              </a:solidFill>
              <a:latin typeface="Calibri"/>
            </a:endParaRPr>
          </a:p>
          <a:p>
            <a:pPr lvl="1" marL="685800" indent="-228600">
              <a:lnSpc>
                <a:spcPct val="10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明确乡、镇人民政府和街道办事处的食品安全管理职责，督促、指导乡、镇人民政府和街道办事处做好食品安全日常工作，形成基层食品安全工作合力。</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B1831-E8DF-4C6D-984C-53FD256DF212}"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531"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532"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8FE8F-AF89-4CFE-BE7B-55041D89C8AA}"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3"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79CBF-78A0-4319-A64C-26B767902AAC}"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534"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535"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6BC2A-CD7B-488C-87AD-B003EC7A90D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一章 总则  政府职责</a:t>
            </a:r>
            <a:endParaRPr b="0" lang="en-US" sz="4800" spc="-1" strike="noStrike">
              <a:solidFill>
                <a:srgbClr val="000000"/>
              </a:solidFill>
              <a:latin typeface="Calibri Light"/>
            </a:endParaRPr>
          </a:p>
        </p:txBody>
      </p:sp>
      <p:sp>
        <p:nvSpPr>
          <p:cNvPr id="537" name="PlaceHolder 2"/>
          <p:cNvSpPr>
            <a:spLocks noGrp="1"/>
          </p:cNvSpPr>
          <p:nvPr>
            <p:ph/>
          </p:nvPr>
        </p:nvSpPr>
        <p:spPr>
          <a:xfrm>
            <a:off x="514440" y="2017800"/>
            <a:ext cx="1127736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市、区食品药品安全委员会：</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研究部署、统筹指导食品安全工作；</a:t>
            </a:r>
            <a:endParaRPr b="0" lang="en-US" sz="24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0f0a"/>
                </a:solidFill>
                <a:latin typeface="楷体_GB2312"/>
                <a:ea typeface="楷体_GB2312"/>
              </a:rPr>
              <a:t>制定食品安全中长期规划和年度工作计划；</a:t>
            </a:r>
            <a:endParaRPr b="0" lang="en-US" sz="24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0f0a"/>
                </a:solidFill>
                <a:latin typeface="楷体_GB2312"/>
                <a:ea typeface="楷体_GB2312"/>
              </a:rPr>
              <a:t>组织开展食品安全重大问题的调查研究，</a:t>
            </a:r>
            <a:r>
              <a:rPr b="1" lang="zh-CN" sz="2400" spc="-1" strike="noStrike">
                <a:solidFill>
                  <a:srgbClr val="000000"/>
                </a:solidFill>
                <a:latin typeface="楷体_GB2312"/>
                <a:ea typeface="楷体_GB2312"/>
              </a:rPr>
              <a:t>制定食品安全监督管理的政策措施</a:t>
            </a:r>
            <a:endParaRPr b="0" lang="en-US" sz="24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督促落实食品安全监督管理责任，组织开展食品安全监督管理工作的督查考评；</a:t>
            </a:r>
            <a:endParaRPr b="0" lang="en-US" sz="24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组织开展重大食品安全事故的责任调查处理工作；</a:t>
            </a:r>
            <a:endParaRPr b="0" lang="en-US" sz="24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研究、协调、决定有关部门监督管理职责问题；</a:t>
            </a:r>
            <a:endParaRPr b="0" lang="en-US" sz="24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市、区人民政府授予的其他职责。</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E1B3A-B1A4-47FE-8144-681BBFE87814}"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539"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540"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A1667-C5E5-4851-8A80-C4F19506421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1"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81915-6C57-4676-9A09-854010CE03F4}"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542"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543"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6216D-BB29-4005-9B80-949A089AAE13}"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一章 总则  政府职责</a:t>
            </a:r>
            <a:endParaRPr b="0" lang="en-US" sz="4800" spc="-1" strike="noStrike">
              <a:solidFill>
                <a:srgbClr val="000000"/>
              </a:solidFill>
              <a:latin typeface="Calibri Light"/>
            </a:endParaRPr>
          </a:p>
        </p:txBody>
      </p:sp>
      <p:sp>
        <p:nvSpPr>
          <p:cNvPr id="545" name="PlaceHolder 2"/>
          <p:cNvSpPr>
            <a:spLocks noGrp="1"/>
          </p:cNvSpPr>
          <p:nvPr>
            <p:ph/>
          </p:nvPr>
        </p:nvSpPr>
        <p:spPr>
          <a:xfrm>
            <a:off x="666360" y="2017800"/>
            <a:ext cx="1082052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市、区食品药品安全委员会下设办公室</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设在同级食药监、市场监管部门；</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负责辖区内食品安全综合协调、监督考评、应急管理等工作；</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承担委员会在食品安全方面的日常工作。</a:t>
            </a:r>
            <a:endParaRPr b="0" lang="en-US" sz="2800" spc="-1" strike="noStrike">
              <a:solidFill>
                <a:srgbClr val="000000"/>
              </a:solidFill>
              <a:latin typeface="Calibri"/>
            </a:endParaRPr>
          </a:p>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乡、镇人民政府和街道办事处</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建立的食品安全综合协调机构；</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食品安全综合协调、隐患排查、信息报告、协助执法和宣传教育等工作。</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10A29-166D-41AA-AD5A-48FF8DE2C306}"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547"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548"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D70F-5EC2-4E0B-B4B1-B20120AACCFA}"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9"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84ECB-855E-4CC7-A601-A87D7643C1BA}"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550"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551"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538FA-A9B9-4A88-9112-8101BF2819F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一章 总则 监管体制</a:t>
            </a:r>
            <a:endParaRPr b="0" lang="en-US" sz="4800" spc="-1" strike="noStrike">
              <a:solidFill>
                <a:srgbClr val="000000"/>
              </a:solidFill>
              <a:latin typeface="Calibri Light"/>
            </a:endParaRPr>
          </a:p>
        </p:txBody>
      </p:sp>
      <p:sp>
        <p:nvSpPr>
          <p:cNvPr id="553" name="PlaceHolder 2"/>
          <p:cNvSpPr>
            <a:spLocks noGrp="1"/>
          </p:cNvSpPr>
          <p:nvPr>
            <p:ph/>
          </p:nvPr>
        </p:nvSpPr>
        <p:spPr>
          <a:xfrm>
            <a:off x="666360" y="2017800"/>
            <a:ext cx="1082052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市食品药品监督管理部门</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对本市食品、食品添加剂生产经营活动实施监督管理；</a:t>
            </a:r>
            <a:endParaRPr b="0" lang="en-US" sz="24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对食品安全事故的应急处置和调查处理进行组织指导；</a:t>
            </a:r>
            <a:endParaRPr b="0" lang="en-US" sz="24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0f0a"/>
                </a:solidFill>
                <a:latin typeface="楷体_GB2312"/>
                <a:ea typeface="楷体_GB2312"/>
              </a:rPr>
              <a:t>对监管职责存在争议、尚未明确的事项，先行承担监管职责。</a:t>
            </a:r>
            <a:endParaRPr b="0" lang="en-US" sz="2400" spc="-1" strike="noStrike">
              <a:solidFill>
                <a:srgbClr val="000000"/>
              </a:solidFill>
              <a:latin typeface="Calibri"/>
            </a:endParaRPr>
          </a:p>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区市场监督管理部门及其派出机构</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0f0a"/>
                </a:solidFill>
                <a:latin typeface="楷体_GB2312"/>
                <a:ea typeface="楷体_GB2312"/>
              </a:rPr>
              <a:t>负责区域内食品、食品添加剂及食品相关产品生产经营活动实施监管。</a:t>
            </a:r>
            <a:endParaRPr b="0" lang="en-US" sz="2400" spc="-1" strike="noStrike">
              <a:solidFill>
                <a:srgbClr val="000000"/>
              </a:solidFill>
              <a:latin typeface="Calibri"/>
            </a:endParaRPr>
          </a:p>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具体职责监管职责</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由市、区人民政府确定</a:t>
            </a:r>
            <a:r>
              <a:rPr b="1" lang="zh-CN" sz="2000" spc="-1" strike="noStrike">
                <a:solidFill>
                  <a:srgbClr val="000000"/>
                </a:solidFill>
                <a:latin typeface="楷体_GB2312"/>
                <a:ea typeface="楷体_GB2312"/>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6489A-B9A3-47A3-A612-0448B3AAB164}"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414"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415"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917CE-2C76-47D6-BE97-F836FF4D3333}"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16"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6A5B0-1CDD-4FEA-96CE-AC9B4BFA8F7A}"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417"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418"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8305-C011-40E7-9D02-F38AD1E297B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1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内容</a:t>
            </a:r>
            <a:endParaRPr b="0" lang="en-US" sz="4800" spc="-1" strike="noStrike">
              <a:solidFill>
                <a:srgbClr val="000000"/>
              </a:solidFill>
              <a:latin typeface="Calibri Light"/>
            </a:endParaRPr>
          </a:p>
        </p:txBody>
      </p:sp>
      <p:sp>
        <p:nvSpPr>
          <p:cNvPr id="420" name="PlaceHolder 2"/>
          <p:cNvSpPr>
            <a:spLocks noGrp="1"/>
          </p:cNvSpPr>
          <p:nvPr>
            <p:ph/>
          </p:nvPr>
        </p:nvSpPr>
        <p:spPr>
          <a:xfrm>
            <a:off x="3695760" y="2017440"/>
            <a:ext cx="4952880" cy="3125880"/>
          </a:xfrm>
          <a:prstGeom prst="rect">
            <a:avLst/>
          </a:prstGeom>
          <a:noFill/>
          <a:ln w="0">
            <a:noFill/>
          </a:ln>
        </p:spPr>
        <p:txBody>
          <a:bodyPr anchor="t">
            <a:normAutofit/>
          </a:bodyPr>
          <a:p>
            <a:pPr marL="228600" indent="0">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一、立法背景</a:t>
            </a:r>
            <a:endParaRPr b="0" lang="en-US" sz="3600" spc="-1" strike="noStrike">
              <a:solidFill>
                <a:srgbClr val="000000"/>
              </a:solidFill>
              <a:latin typeface="Calibri"/>
            </a:endParaRPr>
          </a:p>
          <a:p>
            <a:pPr marL="228600" indent="0">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二、条例的框架</a:t>
            </a:r>
            <a:endParaRPr b="0" lang="en-US" sz="3600" spc="-1" strike="noStrike">
              <a:solidFill>
                <a:srgbClr val="000000"/>
              </a:solidFill>
              <a:latin typeface="Calibri"/>
            </a:endParaRPr>
          </a:p>
          <a:p>
            <a:pPr marL="228600" indent="0">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三、主要条款解读</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FA189-FAAA-4FAC-8DFD-8EE1C7A419DD}"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555"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556"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43EA3-5576-4A37-BFB9-F0D872BD5F4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7"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7CC69-EBC6-4A19-8EE7-883BD481C32C}"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558"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559"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6ADFD-7312-4105-B7DD-45DBA5F84661}"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一章 总则 监管体制</a:t>
            </a:r>
            <a:endParaRPr b="0" lang="en-US" sz="4800" spc="-1" strike="noStrike">
              <a:solidFill>
                <a:srgbClr val="000000"/>
              </a:solidFill>
              <a:latin typeface="Calibri Light"/>
            </a:endParaRPr>
          </a:p>
        </p:txBody>
      </p:sp>
      <p:sp>
        <p:nvSpPr>
          <p:cNvPr id="561" name="PlaceHolder 2"/>
          <p:cNvSpPr>
            <a:spLocks noGrp="1"/>
          </p:cNvSpPr>
          <p:nvPr>
            <p:ph/>
          </p:nvPr>
        </p:nvSpPr>
        <p:spPr>
          <a:xfrm>
            <a:off x="666360" y="2017800"/>
            <a:ext cx="1110636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市质量技术监督部门</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对本市食品相关产品生产加工的质量安全实施监督管理。</a:t>
            </a:r>
            <a:endParaRPr b="0" lang="en-US" sz="2800" spc="-1" strike="noStrike">
              <a:solidFill>
                <a:srgbClr val="000000"/>
              </a:solidFill>
              <a:latin typeface="Calibri"/>
            </a:endParaRPr>
          </a:p>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农业部门</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负责本市食用农产品种植、养殖以及进入批发、零售市场或者生产加工企业前的质量安全监督管理；</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提出农产品中农药残留、兽药残留的限量和检测方法的建议，负责生鲜乳收购的质量安全、畜禽屠宰和无害化处置的监督管理；</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农业投入品经营、使用的监督管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2953E-4069-461E-97CA-3DFD4BA63BC3}"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563"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564"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93E1E-E4A8-4500-9544-3FEFD983450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65"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5A32B-24C4-4D1D-9523-BB136A2E2828}"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566"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567"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F7F7C-0A63-4CD1-A33A-233E08F9B4A3}"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一章 总则 监管体制</a:t>
            </a:r>
            <a:endParaRPr b="0" lang="en-US" sz="4800" spc="-1" strike="noStrike">
              <a:solidFill>
                <a:srgbClr val="000000"/>
              </a:solidFill>
              <a:latin typeface="Calibri Light"/>
            </a:endParaRPr>
          </a:p>
        </p:txBody>
      </p:sp>
      <p:sp>
        <p:nvSpPr>
          <p:cNvPr id="569" name="PlaceHolder 2"/>
          <p:cNvSpPr>
            <a:spLocks noGrp="1"/>
          </p:cNvSpPr>
          <p:nvPr>
            <p:ph/>
          </p:nvPr>
        </p:nvSpPr>
        <p:spPr>
          <a:xfrm>
            <a:off x="666360" y="2017800"/>
            <a:ext cx="10820520" cy="433872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卫生计生部门</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负责组织开展本市食品安全风险监测和风险评估、食品安全地方标准制定、食品安全企业标准备案工作；</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配合食品药品监督管理部门开展食品安全事故调查处理工作。</a:t>
            </a:r>
            <a:endParaRPr b="0" lang="en-US" sz="2800" spc="-1" strike="noStrike">
              <a:solidFill>
                <a:srgbClr val="000000"/>
              </a:solidFill>
              <a:latin typeface="Calibri"/>
            </a:endParaRPr>
          </a:p>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商务部门</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负责指导协调本市食用农产品批发交易市场规划、协调城乡食品商业网点布局；</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负责酒类流通和消费领域的质量安全监督管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80B83-1577-47CF-97D5-A105E988F903}"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571"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572"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9BE4D-8822-4FC3-8148-CC410BB277E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73"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C4A50-DB7E-43F9-A80C-7AF7A4B85213}"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574"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575"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B1EF3-AC0D-48B0-94B1-A39C77A8EBF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一章 总则 监管体制</a:t>
            </a:r>
            <a:endParaRPr b="0" lang="en-US" sz="4800" spc="-1" strike="noStrike">
              <a:solidFill>
                <a:srgbClr val="000000"/>
              </a:solidFill>
              <a:latin typeface="Calibri Light"/>
            </a:endParaRPr>
          </a:p>
        </p:txBody>
      </p:sp>
      <p:sp>
        <p:nvSpPr>
          <p:cNvPr id="577" name="PlaceHolder 2"/>
          <p:cNvSpPr>
            <a:spLocks noGrp="1"/>
          </p:cNvSpPr>
          <p:nvPr>
            <p:ph/>
          </p:nvPr>
        </p:nvSpPr>
        <p:spPr>
          <a:xfrm>
            <a:off x="666360" y="2017800"/>
            <a:ext cx="11125080" cy="433872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粮食部门</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负责粮食收购、贮存活动中粮食质量以及原粮卫生的监督管理。</a:t>
            </a:r>
            <a:endParaRPr b="0" lang="en-US" sz="2800" spc="-1" strike="noStrike">
              <a:solidFill>
                <a:srgbClr val="000000"/>
              </a:solidFill>
              <a:latin typeface="Calibri"/>
            </a:endParaRPr>
          </a:p>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绿化市容管理部门</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负责本市餐厨废弃油脂和餐厨垃圾收运、处置的监督管理。</a:t>
            </a:r>
            <a:endParaRPr b="0" lang="en-US" sz="2800" spc="-1" strike="noStrike">
              <a:solidFill>
                <a:srgbClr val="000000"/>
              </a:solidFill>
              <a:latin typeface="Calibri"/>
            </a:endParaRPr>
          </a:p>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其他部门</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出入境检验检疫、工商行政管理、经济信息化、城市管理行政执法、公安、环境保护、教育、</a:t>
            </a:r>
            <a:r>
              <a:rPr b="1" lang="zh-CN" sz="2800" spc="-1" strike="noStrike">
                <a:solidFill>
                  <a:srgbClr val="ea0f0a"/>
                </a:solidFill>
                <a:latin typeface="楷体_GB2312"/>
                <a:ea typeface="楷体_GB2312"/>
              </a:rPr>
              <a:t>住房和建设、文广影视、通信管理</a:t>
            </a:r>
            <a:r>
              <a:rPr b="1" lang="zh-CN" sz="2800" spc="-1" strike="noStrike">
                <a:solidFill>
                  <a:srgbClr val="000000"/>
                </a:solidFill>
                <a:latin typeface="楷体_GB2312"/>
                <a:ea typeface="楷体_GB2312"/>
              </a:rPr>
              <a:t>等部门在各自职责范围内，共同做好相关食品安全工作。</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E4F7B-8420-4F17-9B92-E22BF91D4882}"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579"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580"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F3A00-8DD3-45A1-BFBB-C4323D2A3AA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81"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34A28-B025-49A6-A763-FFB31319D4D2}"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582"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583"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A308F-4510-498D-8798-9DFC092D619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一章 总则 行业自律</a:t>
            </a:r>
            <a:endParaRPr b="0" lang="en-US" sz="4800" spc="-1" strike="noStrike">
              <a:solidFill>
                <a:srgbClr val="000000"/>
              </a:solidFill>
              <a:latin typeface="Calibri Light"/>
            </a:endParaRPr>
          </a:p>
        </p:txBody>
      </p:sp>
      <p:sp>
        <p:nvSpPr>
          <p:cNvPr id="585"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与食品有关的行业组织应当加强行业自律，</a:t>
            </a:r>
            <a:r>
              <a:rPr b="1" lang="zh-CN" sz="3200" spc="-1" strike="noStrike">
                <a:solidFill>
                  <a:srgbClr val="ea0f0a"/>
                </a:solidFill>
                <a:latin typeface="楷体_GB2312"/>
                <a:ea typeface="楷体_GB2312"/>
              </a:rPr>
              <a:t>按照章程建立健全行业规范和奖惩机制</a:t>
            </a:r>
            <a:r>
              <a:rPr b="1" lang="zh-CN" sz="3200" spc="-1" strike="noStrike">
                <a:solidFill>
                  <a:srgbClr val="000000"/>
                </a:solidFill>
                <a:latin typeface="楷体_GB2312"/>
                <a:ea typeface="楷体_GB2312"/>
              </a:rPr>
              <a:t>；</a:t>
            </a:r>
            <a:endParaRPr b="0" lang="en-US" sz="3200" spc="-1" strike="noStrike">
              <a:solidFill>
                <a:srgbClr val="000000"/>
              </a:solidFill>
              <a:latin typeface="Calibri"/>
            </a:endParaRPr>
          </a:p>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提供食品安全信息、技术、培训等服务，</a:t>
            </a:r>
            <a:r>
              <a:rPr b="1" lang="zh-CN" sz="3200" spc="-1" strike="noStrike">
                <a:solidFill>
                  <a:srgbClr val="000000"/>
                </a:solidFill>
                <a:latin typeface="楷体_GB2312"/>
                <a:ea typeface="楷体_GB2312"/>
              </a:rPr>
              <a:t>引导和督促食品生产经营者依法生产经营，推动行业诚信建设；</a:t>
            </a:r>
            <a:endParaRPr b="0" lang="en-US" sz="3200" spc="-1" strike="noStrike">
              <a:solidFill>
                <a:srgbClr val="000000"/>
              </a:solidFill>
              <a:latin typeface="Calibri"/>
            </a:endParaRPr>
          </a:p>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宣传、普及食品安全知识，为政府完善食品安全管理制度提出意见和建议；</a:t>
            </a:r>
            <a:endParaRPr b="0" lang="en-US" sz="3200" spc="-1" strike="noStrike">
              <a:solidFill>
                <a:srgbClr val="000000"/>
              </a:solidFill>
              <a:latin typeface="Calibri"/>
            </a:endParaRPr>
          </a:p>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消费者权益保护委员会和其他消费者组织对违反本条例规定，损害消费者合法权益的行为，依法进行社会监督。</a:t>
            </a:r>
            <a:endParaRPr b="0" lang="en-US" sz="3200" spc="-1" strike="noStrike">
              <a:solidFill>
                <a:srgbClr val="000000"/>
              </a:solidFill>
              <a:latin typeface="Calibri"/>
            </a:endParaRPr>
          </a:p>
          <a:p>
            <a:pPr marL="228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3432F-85D0-42AE-A92E-DBA4E0391D2E}"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587"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588"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3918-E2A1-4B61-9810-4E98FEEC8D0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89"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779A5-6300-4EE0-9348-736DCA03395C}"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590"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591"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50B30-D1C6-41A4-AC37-BB3A25C76F9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9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一章 总则 食品安全宣传</a:t>
            </a:r>
            <a:endParaRPr b="0" lang="en-US" sz="4800" spc="-1" strike="noStrike">
              <a:solidFill>
                <a:srgbClr val="000000"/>
              </a:solidFill>
              <a:latin typeface="Calibri Light"/>
            </a:endParaRPr>
          </a:p>
        </p:txBody>
      </p:sp>
      <p:sp>
        <p:nvSpPr>
          <p:cNvPr id="593" name="PlaceHolder 2"/>
          <p:cNvSpPr>
            <a:spLocks noGrp="1"/>
          </p:cNvSpPr>
          <p:nvPr>
            <p:ph/>
          </p:nvPr>
        </p:nvSpPr>
        <p:spPr>
          <a:xfrm>
            <a:off x="666720" y="2017800"/>
            <a:ext cx="1104912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各级政府</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利用各类媒体向市民普及食品安全知识；</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食品生产场所、批发交易市场、标准化菜市场、超市卖场、餐饮场所、食品经营网站等开展有针对性的食品安全宣传教育。</a:t>
            </a:r>
            <a:endParaRPr b="0" lang="en-US" sz="2800" spc="-1" strike="noStrike">
              <a:solidFill>
                <a:srgbClr val="000000"/>
              </a:solidFill>
              <a:latin typeface="Calibri"/>
            </a:endParaRPr>
          </a:p>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鼓励社会组织、基层群众性自治组织、食品生产经营者</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开展食品安全法律、法规、规章以及食品安全标准和知识的普及工作，倡导健康的饮食方式，增强消费者食品安全意识和自我保护能力。</a:t>
            </a:r>
            <a:endParaRPr b="0" lang="en-US" sz="2800" spc="-1" strike="noStrike">
              <a:solidFill>
                <a:srgbClr val="000000"/>
              </a:solidFill>
              <a:latin typeface="Calibri"/>
            </a:endParaRPr>
          </a:p>
          <a:p>
            <a:pPr marL="228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F726F-4DB9-458E-AA18-1354DFC24236}"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595"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596"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91015-FFF2-43DD-BEDB-EEE316D4979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97"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E858E-4BD9-489F-BCF9-93BC02E8DD09}"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598"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599"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21660-B040-47C6-966E-5D857671A09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一章 总则 食品安全宣传</a:t>
            </a:r>
            <a:endParaRPr b="0" lang="en-US" sz="4800" spc="-1" strike="noStrike">
              <a:solidFill>
                <a:srgbClr val="000000"/>
              </a:solidFill>
              <a:latin typeface="Calibri Light"/>
            </a:endParaRPr>
          </a:p>
        </p:txBody>
      </p:sp>
      <p:sp>
        <p:nvSpPr>
          <p:cNvPr id="601" name="PlaceHolder 2"/>
          <p:cNvSpPr>
            <a:spLocks noGrp="1"/>
          </p:cNvSpPr>
          <p:nvPr>
            <p:ph/>
          </p:nvPr>
        </p:nvSpPr>
        <p:spPr>
          <a:xfrm>
            <a:off x="666360" y="2017800"/>
            <a:ext cx="10820520" cy="433872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各级各类学校</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应当将食品安全知识纳入相关教育课程。</a:t>
            </a:r>
            <a:endParaRPr b="0" lang="en-US" sz="2800" spc="-1" strike="noStrike">
              <a:solidFill>
                <a:srgbClr val="000000"/>
              </a:solidFill>
              <a:latin typeface="Calibri"/>
            </a:endParaRPr>
          </a:p>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广播电台、电视台、报刊、网站等媒体</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应当开展食品安全法律、法规、规章以及食品安全标准和知识的公益宣传，并对食品安全违法行为进行舆论监督。</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有关食品安全的宣传报道应当真实、公正。</a:t>
            </a:r>
            <a:endParaRPr b="0" lang="en-US" sz="2800" spc="-1" strike="noStrike">
              <a:solidFill>
                <a:srgbClr val="000000"/>
              </a:solidFill>
              <a:latin typeface="Calibri"/>
            </a:endParaRPr>
          </a:p>
          <a:p>
            <a:pPr marL="228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B6065-780A-4F9F-B4C0-6C2867D51873}"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603"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604"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7AD1C-AD56-4A82-8910-8C959E1948E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5"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55D76-E672-4969-9324-6699480489BF}"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606"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607"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DC13B-4A94-4DAD-A161-E8BB491CAAF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二章 风险监测、评估与标准</a:t>
            </a:r>
            <a:endParaRPr b="0" lang="en-US" sz="4800" spc="-1" strike="noStrike">
              <a:solidFill>
                <a:srgbClr val="000000"/>
              </a:solidFill>
              <a:latin typeface="Calibri Light"/>
            </a:endParaRPr>
          </a:p>
        </p:txBody>
      </p:sp>
      <p:sp>
        <p:nvSpPr>
          <p:cNvPr id="609"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食品安全风险监测</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市卫计部门会同市食药监、质监、农业、出入境制定风险监测方案；</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监测机构按计划和方案开展监测，向市卫计部门报送监测结果；</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市卫计部门收集、汇总结果，通报其他相关部门；可能存在隐患的，及时将通报，并报告市政府和国务院卫计委。</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监管部门接到通报后，组织开展进一步调查并将调查结果报告市政府。</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EB640-5107-48A7-A1EC-4BFA14E87A75}"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611"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612"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88E63-AE25-43FB-807D-31EA6FCD78A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3"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16837-1103-4E50-A6AF-FBA8D86F34C2}"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614"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615"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A50CC-6A4F-4159-BA54-8552801722A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二章 风险监测、评估与标准</a:t>
            </a:r>
            <a:endParaRPr b="0" lang="en-US" sz="4800" spc="-1" strike="noStrike">
              <a:solidFill>
                <a:srgbClr val="000000"/>
              </a:solidFill>
              <a:latin typeface="Calibri Light"/>
            </a:endParaRPr>
          </a:p>
        </p:txBody>
      </p:sp>
      <p:sp>
        <p:nvSpPr>
          <p:cNvPr id="617"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食品安全风险评估</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市卫计部门负责组织评估工作，成立评估专家委员会，进行风险评估。</a:t>
            </a:r>
            <a:endParaRPr b="0" lang="en-US" sz="24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监管门在监督管理工作中发现需要进行评估的，向市卫计部门提出建议，提供风险来源及相关信息、资料。</a:t>
            </a:r>
            <a:endParaRPr b="0" lang="en-US" sz="24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市卫计部门对需要进行评估的，及时组织开展评估，并通报评估结果。</a:t>
            </a:r>
            <a:endParaRPr b="0" lang="en-US" sz="24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评估结果作为开展监督管理、制定和修订标准、发布风险警示的依据。</a:t>
            </a:r>
            <a:endParaRPr b="0" lang="en-US" sz="24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0f0a"/>
                </a:solidFill>
                <a:latin typeface="楷体_GB2312"/>
                <a:ea typeface="楷体_GB2312"/>
              </a:rPr>
              <a:t>评估不安全结论的，监管依据各自职责立即采取相应措施，确保食品、食品添加剂、食品相关产品停止生产经营；需要制定、修订相关标准的，市卫计部门会同市食药监等部门立即制定、修订。</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50A2F-AB55-408E-86F1-CEA8DF3D416D}"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619"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620"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46985-B2E6-4F7F-AF68-3E659B9BC28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21"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13CEB-FFD2-4CC1-917D-80C6EE1F215D}"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622"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623"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B568E-55F9-4A04-BAEF-7821E258784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2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二章 风险监测、评估与标准</a:t>
            </a:r>
            <a:endParaRPr b="0" lang="en-US" sz="4800" spc="-1" strike="noStrike">
              <a:solidFill>
                <a:srgbClr val="000000"/>
              </a:solidFill>
              <a:latin typeface="Calibri Light"/>
            </a:endParaRPr>
          </a:p>
        </p:txBody>
      </p:sp>
      <p:sp>
        <p:nvSpPr>
          <p:cNvPr id="625"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0f0a"/>
                </a:solidFill>
                <a:latin typeface="楷体_GB2312"/>
                <a:ea typeface="楷体_GB2312"/>
              </a:rPr>
              <a:t>食品安全风险信息交流</a:t>
            </a:r>
            <a:endParaRPr b="0" lang="en-US" sz="36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市食药监、质监、农业、卫生计生、出入境等部门和食品安全风险评估专家委员会及其技术机构应当按照科学、客观、及时、公开的原则，组织食品生产经营者、食品检验机构、认证机构、有关行业组织、消费者权益保护委员会以及新闻媒体等，就食品安全风险评估信息和食品安全监督管理信息进行交流沟通。</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19342-D439-40DC-951D-5E1CEDF9342B}"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627"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628"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99E7F-EA57-4CC8-AB5E-CA3FB3481C71}"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29"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BBF81-A42B-413F-81F8-4C7FF82451F1}"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630"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631"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C5074-B823-41AD-97BB-2C29FFAD150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3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二章 风险监测、评估与标准</a:t>
            </a:r>
            <a:endParaRPr b="0" lang="en-US" sz="4800" spc="-1" strike="noStrike">
              <a:solidFill>
                <a:srgbClr val="000000"/>
              </a:solidFill>
              <a:latin typeface="Calibri Light"/>
            </a:endParaRPr>
          </a:p>
        </p:txBody>
      </p:sp>
      <p:sp>
        <p:nvSpPr>
          <p:cNvPr id="633"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食品安全地方标准</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对没有食品安全国家标准的地方特色食品，由市卫计委会同市食药监制定、公布本市食品安全地方标准，并报国务院卫计委备案。市质监提供编号。</a:t>
            </a:r>
            <a:endParaRPr b="0" lang="en-US" sz="2400" spc="-1" strike="noStrike">
              <a:solidFill>
                <a:srgbClr val="000000"/>
              </a:solidFill>
              <a:latin typeface="Calibri"/>
            </a:endParaRPr>
          </a:p>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企业标准</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企业生产的食品没有国家标准或者地方标准的，应当制定企业标准，作为组织生产的依据，并向社会公布。</a:t>
            </a:r>
            <a:endParaRPr b="0" lang="en-US" sz="24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0f0a"/>
                </a:solidFill>
                <a:latin typeface="楷体_GB2312"/>
                <a:ea typeface="楷体_GB2312"/>
              </a:rPr>
              <a:t>鼓励食品生产企业制定严于国家标准或者地方标准的企业标准，报卫计委备案。</a:t>
            </a:r>
            <a:endParaRPr b="0" lang="en-US" sz="24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0f0a"/>
                </a:solidFill>
                <a:latin typeface="楷体_GB2312"/>
                <a:ea typeface="楷体_GB2312"/>
              </a:rPr>
              <a:t>食品相关产品的企业标准，报市质监局或者区市场监督管理部门备案。</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3879A-D6D2-4423-A949-79E52491F7D5}"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422"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423"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F5105-6020-4953-8942-97DF2272CDB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24"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7FEF7-BF70-400D-A0C4-56006D25FBBF}"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425"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426"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AED8B-5718-417B-B0C3-A75AA7269BE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27" name="PlaceHolder 1"/>
          <p:cNvSpPr>
            <a:spLocks noGrp="1"/>
          </p:cNvSpPr>
          <p:nvPr>
            <p:ph type="title"/>
          </p:nvPr>
        </p:nvSpPr>
        <p:spPr>
          <a:xfrm>
            <a:off x="933480" y="225108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一、立法背景</a:t>
            </a:r>
            <a:endParaRPr b="0" lang="en-US" sz="48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76EB3-3DC6-4FF8-ACCF-6E3FB191E755}"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635"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636"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97943-ADDC-4A31-A84A-7D5F4771D36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37"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3872A-EB04-4E39-A4F7-C19C63AE2C85}"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638"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639"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2CE20-661F-481B-A6A1-3C81707A72B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4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食品生产经营</a:t>
            </a:r>
            <a:endParaRPr b="0" lang="en-US" sz="4800" spc="-1" strike="noStrike">
              <a:solidFill>
                <a:srgbClr val="000000"/>
              </a:solidFill>
              <a:latin typeface="Calibri Light"/>
            </a:endParaRPr>
          </a:p>
        </p:txBody>
      </p:sp>
      <p:sp>
        <p:nvSpPr>
          <p:cNvPr id="641"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市场准入的一般规定</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从事食品生产经营活动，应当依法取得食品生产经营许可，在生产经营场所的显著位置公示许可证明文件、营业执照和食品安全相关信息，并按照许可范围依法生产经营。</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以食用农产品为原料，经清洗、切配、消毒等加工处理，生产供直接食用食品的，应当依法办理食品生产许可。</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从事生猪产品及牛羊等其他家畜的产品批发、零售的，应当依法取得食品经营许可。</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7EBCC-6FB8-4B00-AF92-4A8FF97BD9F0}"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643"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644"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5AECC-18BA-4269-BF97-D3A8738EF5A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45"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67F1D-D598-4F7B-AFDF-1FB150ED7F12}"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646"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647"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15099-DC32-4145-8A33-AF75797CF18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4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食品生产经营</a:t>
            </a:r>
            <a:endParaRPr b="0" lang="en-US" sz="4800" spc="-1" strike="noStrike">
              <a:solidFill>
                <a:srgbClr val="000000"/>
              </a:solidFill>
              <a:latin typeface="Calibri Light"/>
            </a:endParaRPr>
          </a:p>
        </p:txBody>
      </p:sp>
      <p:sp>
        <p:nvSpPr>
          <p:cNvPr id="649" name="PlaceHolder 2"/>
          <p:cNvSpPr>
            <a:spLocks noGrp="1"/>
          </p:cNvSpPr>
          <p:nvPr>
            <p:ph/>
          </p:nvPr>
        </p:nvSpPr>
        <p:spPr>
          <a:xfrm>
            <a:off x="647280" y="2017800"/>
            <a:ext cx="11030040" cy="433872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市场准入的一般规定</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对直接接触食品的包装材料等具有较高风险的食品相关产品，按照国家有关工业产品生产许可证管理的规定实施生产许可。</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从事食品和食用农产品贮存、运输服务的经营者，应当依法向区市场监督管理部门备案。</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进沪食品和食用农产品相关信息进沪销售登记制度。</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进口食品安全信息监管部门相互通报制度。出入境、食药监督促进口商、经营企业公布临近保质期进口食品的相关信息。</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749C7-5DE8-458C-99F7-8C69A6CA79F7}"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651"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652"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035DB-B9C3-47EE-BF00-D0DA35C7E7E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53"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1778F-1FBC-48AD-983E-C2FBDDEE5C37}"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654"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655"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1CB9-3D1A-4D98-BCF1-E51F4C0C2353}"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食品生产经营过程</a:t>
            </a:r>
            <a:endParaRPr b="0" lang="en-US" sz="4800" spc="-1" strike="noStrike">
              <a:solidFill>
                <a:srgbClr val="000000"/>
              </a:solidFill>
              <a:latin typeface="Calibri Light"/>
            </a:endParaRPr>
          </a:p>
        </p:txBody>
      </p:sp>
      <p:sp>
        <p:nvSpPr>
          <p:cNvPr id="657" name="PlaceHolder 2"/>
          <p:cNvSpPr>
            <a:spLocks noGrp="1"/>
          </p:cNvSpPr>
          <p:nvPr>
            <p:ph/>
          </p:nvPr>
        </p:nvSpPr>
        <p:spPr>
          <a:xfrm>
            <a:off x="666720" y="2017800"/>
            <a:ext cx="1118232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采购索证要求</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采购食品、食品添加剂、食品相关产品，应当查验供货者的相关许可证件</a:t>
            </a:r>
            <a:r>
              <a:rPr b="1" lang="en-US" sz="2800" spc="-1" strike="noStrike">
                <a:solidFill>
                  <a:srgbClr val="000000"/>
                </a:solidFill>
                <a:latin typeface="楷体_GB2312"/>
                <a:ea typeface="楷体_GB2312"/>
              </a:rPr>
              <a:t>;</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不得向下列生产经营者采购食品、食品添加剂、食品相关产品用于生产经营：</a:t>
            </a:r>
            <a:endParaRPr b="0" lang="en-US" sz="2800" spc="-1" strike="noStrike">
              <a:solidFill>
                <a:srgbClr val="000000"/>
              </a:solidFill>
              <a:latin typeface="Calibri"/>
            </a:endParaRPr>
          </a:p>
          <a:p>
            <a:pPr lvl="1" marL="6858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0f0a"/>
                </a:solidFill>
                <a:latin typeface="楷体_GB2312"/>
                <a:ea typeface="楷体_GB2312"/>
              </a:rPr>
              <a:t> </a:t>
            </a:r>
            <a:r>
              <a:rPr b="1" lang="en-US" sz="2800" spc="-1" strike="noStrike">
                <a:solidFill>
                  <a:srgbClr val="ea0f0a"/>
                </a:solidFill>
                <a:latin typeface="楷体_GB2312"/>
                <a:ea typeface="楷体_GB2312"/>
              </a:rPr>
              <a:t>1</a:t>
            </a:r>
            <a:r>
              <a:rPr b="1" lang="zh-CN" sz="2800" spc="-1" strike="noStrike">
                <a:solidFill>
                  <a:srgbClr val="ea0f0a"/>
                </a:solidFill>
                <a:latin typeface="楷体_GB2312"/>
                <a:ea typeface="楷体_GB2312"/>
              </a:rPr>
              <a:t>、未依法取得相关许可证件或者相关许可证件超过有效期限的生产经营者；</a:t>
            </a:r>
            <a:endParaRPr b="0" lang="en-US" sz="2800" spc="-1" strike="noStrike">
              <a:solidFill>
                <a:srgbClr val="000000"/>
              </a:solidFill>
              <a:latin typeface="Calibri"/>
            </a:endParaRPr>
          </a:p>
          <a:p>
            <a:pPr lvl="1" marL="6858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0f0a"/>
                </a:solidFill>
                <a:latin typeface="楷体_GB2312"/>
                <a:ea typeface="楷体_GB2312"/>
              </a:rPr>
              <a:t> </a:t>
            </a:r>
            <a:r>
              <a:rPr b="1" lang="en-US" sz="2800" spc="-1" strike="noStrike">
                <a:solidFill>
                  <a:srgbClr val="ea0f0a"/>
                </a:solidFill>
                <a:latin typeface="楷体_GB2312"/>
                <a:ea typeface="楷体_GB2312"/>
              </a:rPr>
              <a:t>2</a:t>
            </a:r>
            <a:r>
              <a:rPr b="1" lang="zh-CN" sz="2800" spc="-1" strike="noStrike">
                <a:solidFill>
                  <a:srgbClr val="ea0f0a"/>
                </a:solidFill>
                <a:latin typeface="楷体_GB2312"/>
                <a:ea typeface="楷体_GB2312"/>
              </a:rPr>
              <a:t>、超出许可类别和经营项目从事生产经营活动的生产经营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EBE29-98AE-4295-A84C-92047E54B228}"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659"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660"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247B4-27A5-40E3-944F-D6CA650CB17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61"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2797-7FFF-49FD-B449-E3392C372E91}"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662"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663"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67B0B-8C38-4FC5-BD11-6F76B67DE80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食品生产经营过程</a:t>
            </a:r>
            <a:endParaRPr b="0" lang="en-US" sz="4800" spc="-1" strike="noStrike">
              <a:solidFill>
                <a:srgbClr val="000000"/>
              </a:solidFill>
              <a:latin typeface="Calibri Light"/>
            </a:endParaRPr>
          </a:p>
        </p:txBody>
      </p:sp>
      <p:sp>
        <p:nvSpPr>
          <p:cNvPr id="665"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禁止生产经营下列食品、</a:t>
            </a:r>
            <a:r>
              <a:rPr b="1" lang="zh-CN" sz="2800" spc="-1" strike="noStrike">
                <a:solidFill>
                  <a:srgbClr val="ea0f0a"/>
                </a:solidFill>
                <a:latin typeface="楷体_GB2312"/>
                <a:ea typeface="楷体_GB2312"/>
              </a:rPr>
              <a:t>食品添加剂和食品相关产品</a:t>
            </a:r>
            <a:r>
              <a:rPr b="1" lang="zh-CN" sz="2800" spc="-1" strike="noStrike">
                <a:solidFill>
                  <a:srgbClr val="000000"/>
                </a:solidFill>
                <a:latin typeface="楷体_GB2312"/>
                <a:ea typeface="楷体_GB2312"/>
              </a:rPr>
              <a:t>：</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食品安全法》禁止生产经营的食品、食品添加剂和食品相关产品；</a:t>
            </a:r>
            <a:endParaRPr b="0" lang="en-US" sz="24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以有毒有害动植物为原料的食品；</a:t>
            </a:r>
            <a:endParaRPr b="0" lang="en-US" sz="24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以废弃食用油脂加工制作的食品；</a:t>
            </a:r>
            <a:endParaRPr b="0" lang="en-US" sz="24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市政府为防病和控制重大食品安全风险等特殊需要明令禁止生产经营的食品、食品添加剂。</a:t>
            </a:r>
            <a:endParaRPr b="0" lang="en-US" sz="24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0f0a"/>
                </a:solidFill>
                <a:latin typeface="楷体_GB2312"/>
                <a:ea typeface="楷体_GB2312"/>
              </a:rPr>
              <a:t>禁止使用前款规定的食品、食品添加剂、食品相关产品作为原料，用于食品、食品添加剂、食品相关产品的生产经营。</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69CF3-0FE2-44F7-82A4-F1335797E7EF}"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667"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668"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94446-62B2-4CDE-8900-97D0B0B15EC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69"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46E72-5977-4AA1-A164-A859A58CD965}"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670"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671"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65B1-FC29-41A3-8D2B-B9491691E39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食品生产经营过程</a:t>
            </a:r>
            <a:endParaRPr b="0" lang="en-US" sz="4800" spc="-1" strike="noStrike">
              <a:solidFill>
                <a:srgbClr val="000000"/>
              </a:solidFill>
              <a:latin typeface="Calibri Light"/>
            </a:endParaRPr>
          </a:p>
        </p:txBody>
      </p:sp>
      <p:sp>
        <p:nvSpPr>
          <p:cNvPr id="673"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食品相关产品生产企业的基本要求</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就下列事项制定并实施控制要求，保证产品符合相关标准：</a:t>
            </a:r>
            <a:endParaRPr b="0" lang="en-US" sz="2800" spc="-1" strike="noStrike">
              <a:solidFill>
                <a:srgbClr val="000000"/>
              </a:solidFill>
              <a:latin typeface="Calibri"/>
            </a:endParaRPr>
          </a:p>
          <a:p>
            <a:pPr lvl="2" marL="1143000" indent="-228600">
              <a:lnSpc>
                <a:spcPct val="110000"/>
              </a:lnSpc>
              <a:spcBef>
                <a:spcPts val="601"/>
              </a:spcBef>
              <a:buClr>
                <a:srgbClr val="ea0f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0f0a"/>
                </a:solidFill>
                <a:latin typeface="楷体_GB2312"/>
                <a:ea typeface="楷体_GB2312"/>
              </a:rPr>
              <a:t>原料采购、验收、投料等原料控制；</a:t>
            </a:r>
            <a:endParaRPr b="0" lang="en-US" sz="2400" spc="-1" strike="noStrike">
              <a:solidFill>
                <a:srgbClr val="000000"/>
              </a:solidFill>
              <a:latin typeface="Calibri"/>
            </a:endParaRPr>
          </a:p>
          <a:p>
            <a:pPr lvl="2" marL="1143000" indent="-228600">
              <a:lnSpc>
                <a:spcPct val="110000"/>
              </a:lnSpc>
              <a:spcBef>
                <a:spcPts val="601"/>
              </a:spcBef>
              <a:buClr>
                <a:srgbClr val="ea0f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0f0a"/>
                </a:solidFill>
                <a:latin typeface="楷体_GB2312"/>
                <a:ea typeface="楷体_GB2312"/>
              </a:rPr>
              <a:t>生产工序、设备、贮存、包装等生产关键环节控制；</a:t>
            </a:r>
            <a:endParaRPr b="0" lang="en-US" sz="2400" spc="-1" strike="noStrike">
              <a:solidFill>
                <a:srgbClr val="000000"/>
              </a:solidFill>
              <a:latin typeface="Calibri"/>
            </a:endParaRPr>
          </a:p>
          <a:p>
            <a:pPr lvl="2" marL="1143000" indent="-228600">
              <a:lnSpc>
                <a:spcPct val="110000"/>
              </a:lnSpc>
              <a:spcBef>
                <a:spcPts val="601"/>
              </a:spcBef>
              <a:buClr>
                <a:srgbClr val="ea0f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0f0a"/>
                </a:solidFill>
                <a:latin typeface="楷体_GB2312"/>
                <a:ea typeface="楷体_GB2312"/>
              </a:rPr>
              <a:t>原料检验、半成品检验、成品出厂检验等检验控制；</a:t>
            </a:r>
            <a:endParaRPr b="0" lang="en-US" sz="2400" spc="-1" strike="noStrike">
              <a:solidFill>
                <a:srgbClr val="000000"/>
              </a:solidFill>
              <a:latin typeface="Calibri"/>
            </a:endParaRPr>
          </a:p>
          <a:p>
            <a:pPr lvl="2" marL="1143000" indent="-228600">
              <a:lnSpc>
                <a:spcPct val="110000"/>
              </a:lnSpc>
              <a:spcBef>
                <a:spcPts val="601"/>
              </a:spcBef>
              <a:buClr>
                <a:srgbClr val="ea0f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0f0a"/>
                </a:solidFill>
                <a:latin typeface="楷体_GB2312"/>
                <a:ea typeface="楷体_GB2312"/>
              </a:rPr>
              <a:t>运输和交付控制。</a:t>
            </a:r>
            <a:endParaRPr b="0" lang="en-US" sz="24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按照规定进行包装，并附有标签或者说明书；包装、标签、说明书的显著位置，应当标注“食品用”字样。</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6965B-B49F-4806-BE91-2E90235B24AC}"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675"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676"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011BF-F443-48A0-82CA-62250758357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77"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8D88-E975-4864-8F91-721DB9147175}"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678"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679"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FDEB-E3FD-4345-A26C-0AB60785068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食品生产经营过程</a:t>
            </a:r>
            <a:endParaRPr b="0" lang="en-US" sz="4800" spc="-1" strike="noStrike">
              <a:solidFill>
                <a:srgbClr val="000000"/>
              </a:solidFill>
              <a:latin typeface="Calibri Light"/>
            </a:endParaRPr>
          </a:p>
        </p:txBody>
      </p:sp>
      <p:sp>
        <p:nvSpPr>
          <p:cNvPr id="681"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食品添加剂的使用要求</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严格按照食品安全标准使用食品添加剂</a:t>
            </a:r>
            <a:r>
              <a:rPr b="1" lang="en-US" sz="2800" spc="-1" strike="noStrike">
                <a:solidFill>
                  <a:srgbClr val="000000"/>
                </a:solidFill>
                <a:latin typeface="楷体_GB2312"/>
                <a:ea typeface="楷体_GB2312"/>
              </a:rPr>
              <a:t>(GB2760)</a:t>
            </a:r>
            <a:r>
              <a:rPr b="1" lang="zh-CN" sz="2800" spc="-1" strike="noStrike">
                <a:solidFill>
                  <a:srgbClr val="000000"/>
                </a:solidFill>
                <a:latin typeface="楷体_GB2312"/>
                <a:ea typeface="楷体_GB2312"/>
              </a:rPr>
              <a:t>。</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食品添加剂存放于专用橱柜等设施中，标明“食品添加剂”字样，按照食品安全标准规定的品种、范围、用量使用，并建立食品添加剂的使用记录制度。</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市食药监、区市场监管局加强对食品生产经营者使用食品添加剂的指导和监督。</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1C6D1-CC6C-452D-ACB5-33A3985107AF}"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683"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684"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02E61-EDAC-4AB2-B5B2-9F0B3F0513D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85"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890D-282C-46C0-9168-3BC2F70551FA}"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686"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687"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CB2A5-7592-4A6B-8A09-6B3ACFA94E4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8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食品生产经营过程</a:t>
            </a:r>
            <a:endParaRPr b="0" lang="en-US" sz="4800" spc="-1" strike="noStrike">
              <a:solidFill>
                <a:srgbClr val="000000"/>
              </a:solidFill>
              <a:latin typeface="Calibri Light"/>
            </a:endParaRPr>
          </a:p>
        </p:txBody>
      </p:sp>
      <p:sp>
        <p:nvSpPr>
          <p:cNvPr id="689"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高风险食品供应商检查评价制度</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高风险食品生产经营企业建立主要原料和食品供应商检查评价制度，定期或者随机对主要原料和食品供应商的食品安全状况进行检查评价，并做好记录。记录保存期限不得少于二年。</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自行或者委托第三方对主要原料和食品供应商的食品安全状况进行实地查验。发现存在严重食品安全问题的，应当立即停止采购，并向本企业、主要原料和食品供应商所在地的食品药品监督管理或者市场监督管理部门报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3FF86-9DB9-451D-9662-440D7908C419}"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691"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692"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8E3AC-82EB-4E79-A91A-19113EF98B3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93"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05148-E88E-4538-A787-F3BAAA4734F7}"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694"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695"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2B435-15F4-433E-B777-1BB3DA0D32C3}"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9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食品生产经营过程</a:t>
            </a:r>
            <a:endParaRPr b="0" lang="en-US" sz="4800" spc="-1" strike="noStrike">
              <a:solidFill>
                <a:srgbClr val="000000"/>
              </a:solidFill>
              <a:latin typeface="Calibri Light"/>
            </a:endParaRPr>
          </a:p>
        </p:txBody>
      </p:sp>
      <p:sp>
        <p:nvSpPr>
          <p:cNvPr id="697"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高风险食品生产经营企业的目录，由市食药监局编制，报市食药安委批准后实施，并向社会公布。</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高风险食品指易于受到微生物污染而发生腐败变质，无需再次加热烹调的即食食品，如生食水产品等；生产工艺要求较高，一般需要按</a:t>
            </a:r>
            <a:r>
              <a:rPr b="1" lang="en-US" sz="2800" spc="-1" strike="noStrike">
                <a:solidFill>
                  <a:srgbClr val="000000"/>
                </a:solidFill>
                <a:latin typeface="楷体_GB2312"/>
                <a:ea typeface="楷体_GB2312"/>
              </a:rPr>
              <a:t>GMP</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HACCP</a:t>
            </a:r>
            <a:r>
              <a:rPr b="1" lang="zh-CN" sz="2800" spc="-1" strike="noStrike">
                <a:solidFill>
                  <a:srgbClr val="000000"/>
                </a:solidFill>
                <a:latin typeface="楷体_GB2312"/>
                <a:ea typeface="楷体_GB2312"/>
              </a:rPr>
              <a:t>生产的食品，如保健食品；消费量大面广，发生食品安全问题后受影响的人群范围广，如乳制品和肉制品；供应特殊人群（婴幼儿、病人、老人、学生等）消费的食品，这些人群免疫力较低，容易发生健康危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1E387-6CD1-47CB-83ED-D6C419470073}"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699"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700"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9F3E0-CB5B-43E8-B2B0-545CAC7BB26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01"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53F70-C276-4E4E-8391-CA626C05DA33}"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702"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703"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6DC4B-C1B9-4692-8415-AED97A2922A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0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食品生产经营过程</a:t>
            </a:r>
            <a:endParaRPr b="0" lang="en-US" sz="4800" spc="-1" strike="noStrike">
              <a:solidFill>
                <a:srgbClr val="000000"/>
              </a:solidFill>
              <a:latin typeface="Calibri Light"/>
            </a:endParaRPr>
          </a:p>
        </p:txBody>
      </p:sp>
      <p:sp>
        <p:nvSpPr>
          <p:cNvPr id="705"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spcAft>
                <a:spcPts val="601"/>
              </a:spcAft>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0f0a"/>
                </a:solidFill>
                <a:latin typeface="楷体_GB2312"/>
                <a:ea typeface="楷体_GB2312"/>
              </a:rPr>
              <a:t>食品生产的体系管理</a:t>
            </a:r>
            <a:endParaRPr b="0" lang="en-US" sz="3600" spc="-1" strike="noStrike">
              <a:solidFill>
                <a:srgbClr val="000000"/>
              </a:solidFill>
              <a:latin typeface="Calibri"/>
            </a:endParaRPr>
          </a:p>
          <a:p>
            <a:pPr lvl="1" marL="685800" indent="-228600">
              <a:lnSpc>
                <a:spcPct val="110000"/>
              </a:lnSpc>
              <a:spcBef>
                <a:spcPts val="601"/>
              </a:spcBef>
              <a:spcAft>
                <a:spcPts val="601"/>
              </a:spcAft>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取得食品生产许可的企业应当按照良好生产规范要求组织生产（</a:t>
            </a:r>
            <a:r>
              <a:rPr b="1" lang="en-US" sz="3200" spc="-1" strike="noStrike">
                <a:solidFill>
                  <a:srgbClr val="ea0f0a"/>
                </a:solidFill>
                <a:latin typeface="楷体_GB2312"/>
                <a:ea typeface="楷体_GB2312"/>
              </a:rPr>
              <a:t>GB14881</a:t>
            </a:r>
            <a:r>
              <a:rPr b="1" lang="zh-CN" sz="3200" spc="-1" strike="noStrike">
                <a:solidFill>
                  <a:srgbClr val="ea0f0a"/>
                </a:solidFill>
                <a:latin typeface="楷体_GB2312"/>
                <a:ea typeface="楷体_GB2312"/>
              </a:rPr>
              <a:t>），实施危害分析与关键控制点</a:t>
            </a:r>
            <a:r>
              <a:rPr b="1" lang="en-US" sz="3200" spc="-1" strike="noStrike">
                <a:solidFill>
                  <a:srgbClr val="ea0f0a"/>
                </a:solidFill>
                <a:latin typeface="楷体_GB2312"/>
                <a:ea typeface="楷体_GB2312"/>
              </a:rPr>
              <a:t>(HACCP)</a:t>
            </a:r>
            <a:r>
              <a:rPr b="1" lang="zh-CN" sz="3200" spc="-1" strike="noStrike">
                <a:solidFill>
                  <a:srgbClr val="ea0f0a"/>
                </a:solidFill>
                <a:latin typeface="楷体_GB2312"/>
                <a:ea typeface="楷体_GB2312"/>
              </a:rPr>
              <a:t>体系，提高食品安全管理水平。</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2FC49-50EA-45ED-B196-4A973BFD28A6}"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707"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708"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D20C3-5ADF-4F28-85EC-172DB208634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09"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584F8-51E2-4BFF-A46F-A1696B50CD6F}"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710"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711"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DA0F8-F266-4D6B-A580-90B328BC351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食品生产经营过程</a:t>
            </a:r>
            <a:endParaRPr b="0" lang="en-US" sz="4800" spc="-1" strike="noStrike">
              <a:solidFill>
                <a:srgbClr val="000000"/>
              </a:solidFill>
              <a:latin typeface="Calibri Light"/>
            </a:endParaRPr>
          </a:p>
        </p:txBody>
      </p:sp>
      <p:sp>
        <p:nvSpPr>
          <p:cNvPr id="713"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临近保质期食品和食品添加剂管理制度</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食品生产经营者应当建立临近保质期食品和食品添加剂管理制度，将临近保质期的食品和食品添加剂集中存放、陈列、出售，并作出醒目提示。</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禁止食品生产经营者将超过保质期的食品和食品添加剂退回相关生产经营企业。食品生产经营者应当采取染色、毁形等措施对超过保质期的食品和食品添加剂予以销毁，或者进行无害化处理，并记录处置结果。记录保存期限不得少于二年。</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FAF1F-6D9A-49B6-9156-8426F36E1C67}"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429"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430"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09481-F6C5-4A02-A5F3-40CAD27EBAC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31"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2AB61-888C-42F0-BA34-630E84E8FFAA}"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432"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433"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38EFB-F465-4070-B5DD-8B8003507FB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3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立法背景</a:t>
            </a:r>
            <a:endParaRPr b="0" lang="en-US" sz="4800" spc="-1" strike="noStrike">
              <a:solidFill>
                <a:srgbClr val="000000"/>
              </a:solidFill>
              <a:latin typeface="Calibri Light"/>
            </a:endParaRPr>
          </a:p>
        </p:txBody>
      </p:sp>
      <p:sp>
        <p:nvSpPr>
          <p:cNvPr id="435" name="PlaceHolder 2"/>
          <p:cNvSpPr>
            <a:spLocks noGrp="1"/>
          </p:cNvSpPr>
          <p:nvPr>
            <p:ph/>
          </p:nvPr>
        </p:nvSpPr>
        <p:spPr>
          <a:xfrm>
            <a:off x="666360" y="2017800"/>
            <a:ext cx="10820520" cy="4338720"/>
          </a:xfrm>
          <a:prstGeom prst="rect">
            <a:avLst/>
          </a:prstGeom>
          <a:noFill/>
          <a:ln w="0">
            <a:noFill/>
          </a:ln>
        </p:spPr>
        <p:txBody>
          <a:bodyPr anchor="t">
            <a:normAutofit/>
          </a:bodyPr>
          <a:p>
            <a:pPr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食品安全事关人民群众身体健康和生命安全，是全面建成小康社会的重要标志。</a:t>
            </a:r>
            <a:endParaRPr b="0" lang="en-US" sz="32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原《实施办法》对于构建本市食品安全现代治理体系、保障市民健康、维护城市安全发挥了积极作用。</a:t>
            </a:r>
            <a:endParaRPr b="0" lang="en-US" sz="28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但是，《实施办法》的主要内容已难以适应全面落实“四个最严”要求和贯彻实施新《食品安全法》的需要，亟需制定适应新形势下食品安全工作需要、体现本市特点的《上海市食品安全条例》，以容纳更多的创制性规定，进一步从法治层面完善食品安全监管体制机制，提升本市食品安全水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F678F-17E6-4434-B315-E589146A4895}"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715"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716"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1A100-7294-4D80-9ACD-84B82B638D3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17"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8370-D9EB-4D8B-98E4-2E323CD99B06}"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718"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719"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D165F-B468-4DBC-A649-EC431975CDF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2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食品生产经营过程</a:t>
            </a:r>
            <a:endParaRPr b="0" lang="en-US" sz="4800" spc="-1" strike="noStrike">
              <a:solidFill>
                <a:srgbClr val="000000"/>
              </a:solidFill>
              <a:latin typeface="Calibri Light"/>
            </a:endParaRPr>
          </a:p>
        </p:txBody>
      </p:sp>
      <p:sp>
        <p:nvSpPr>
          <p:cNvPr id="721"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回收食品管理制度</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食品生产经营者对回收食品进行登记，</a:t>
            </a:r>
            <a:r>
              <a:rPr b="1" lang="zh-CN" sz="2800" spc="-1" strike="noStrike">
                <a:solidFill>
                  <a:srgbClr val="ea0f0a"/>
                </a:solidFill>
                <a:latin typeface="楷体_GB2312"/>
                <a:ea typeface="楷体_GB2312"/>
              </a:rPr>
              <a:t>在显著标记区域内独立保存，依法采取无害化处理、销毁等措施，防止其再次流入市场</a:t>
            </a:r>
            <a:r>
              <a:rPr b="1" lang="zh-CN" sz="2800" spc="-1" strike="noStrike">
                <a:solidFill>
                  <a:srgbClr val="000000"/>
                </a:solidFill>
                <a:latin typeface="楷体_GB2312"/>
                <a:ea typeface="楷体_GB2312"/>
              </a:rPr>
              <a:t>。</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禁止使用回收食品作为原料用于生产各类食品，或者经过改换包装等方式以其他形式进行销售或者赠送。</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因标签、标志、说明书不符合食品安全标准而回收的食品，食品生产者在采取补救措施且能保证食品安全的情况下可以继续销售或者赠送；销售或者赠送时应当向消费者或者受赠人明示补救措施。</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7A74E-ACDC-4139-AF47-8F33F9AE37A1}"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723"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724"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F094A-4461-4F66-B3DF-24C228FC51A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25"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5159F-C291-454F-959C-CDABD1BCDA6A}"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726"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727"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6D895-DB8F-4C1D-85E0-9ADD3AF4598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2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食品生产经营过程</a:t>
            </a:r>
            <a:endParaRPr b="0" lang="en-US" sz="4800" spc="-1" strike="noStrike">
              <a:solidFill>
                <a:srgbClr val="000000"/>
              </a:solidFill>
              <a:latin typeface="Calibri Light"/>
            </a:endParaRPr>
          </a:p>
        </p:txBody>
      </p:sp>
      <p:sp>
        <p:nvSpPr>
          <p:cNvPr id="729"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回收食品的范围：</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由食品生产经营者回收的在保质期内的各类食品及半成品；</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由食品生产经营者回收的已经超过保质期的各类食品及半成品；</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因各种原因停止销售，由批发商、零售商退回食品生产者的各类食品及半成品；</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因产品质量问题而被查封、扣押、没收的各类食品及半成品。</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C892D-88E9-412F-8E23-2AD8622B9DDF}"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731"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732"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FBA38-4A29-43E4-A753-0CCFF84521A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33"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FEE55-B2A1-4AC5-B2F9-353FE6A31E2A}"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734"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735"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816EB-6984-4196-8B6C-9A3ADF5DFE0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3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食品生产经营过程</a:t>
            </a:r>
            <a:endParaRPr b="0" lang="en-US" sz="4800" spc="-1" strike="noStrike">
              <a:solidFill>
                <a:srgbClr val="000000"/>
              </a:solidFill>
              <a:latin typeface="Calibri Light"/>
            </a:endParaRPr>
          </a:p>
        </p:txBody>
      </p:sp>
      <p:sp>
        <p:nvSpPr>
          <p:cNvPr id="737"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食品从业人员培训</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自行组织或者委托社会培训机构、行业协会，对本单位的从业人员进行上岗前和在岗期间的食品安全知识培训；</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学习食品安全法律、法规、规章、标准和食品安全知识，并建立培训档案；</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食品生产经营者应当对食品安全管理人员、关键环节操作人员及其他相关从业人员进行考核。考核不合格的，不得上岗。</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FC1C2-87C6-4758-9E55-1CAA17B52C06}"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739"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740"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277B1-C035-4D96-9C2E-9CF010F9D17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41"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3276F-44EA-4729-886B-A65FE6564911}"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742"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743"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1706F-C2F8-40EF-BF42-67D3B9EF544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食品生产经营过程</a:t>
            </a:r>
            <a:endParaRPr b="0" lang="en-US" sz="4800" spc="-1" strike="noStrike">
              <a:solidFill>
                <a:srgbClr val="000000"/>
              </a:solidFill>
              <a:latin typeface="Calibri Light"/>
            </a:endParaRPr>
          </a:p>
        </p:txBody>
      </p:sp>
      <p:sp>
        <p:nvSpPr>
          <p:cNvPr id="745"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食品从业人员培训</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相关行业协会负责制定本行业食品生产经营者培训、考核标准，并提供相应的指导和服务。</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市食药监局、区市场监管局应当对食品生产经营者的负责人、食品安全管理人员、关键环节操作人员及其他相关从业人员随机进行监督抽查考核并公布考核情况。</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监督抽查考核不得收取费用；</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参加培训的人员可以按照规定，享受本市企业职工培训补贴。</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52A60-904B-41B8-83FF-3B70C4758E31}"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747"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748"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9088A-CA01-4696-9129-D2933541FA33}"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49"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59539-7473-4D94-8CED-0FAF631F5DDD}"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750"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751"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E1006-C27C-441A-8752-F0259552208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食品生产经营过程</a:t>
            </a:r>
            <a:endParaRPr b="0" lang="en-US" sz="4800" spc="-1" strike="noStrike">
              <a:solidFill>
                <a:srgbClr val="000000"/>
              </a:solidFill>
              <a:latin typeface="Calibri Light"/>
            </a:endParaRPr>
          </a:p>
        </p:txBody>
      </p:sp>
      <p:sp>
        <p:nvSpPr>
          <p:cNvPr id="753" name="PlaceHolder 2"/>
          <p:cNvSpPr>
            <a:spLocks noGrp="1"/>
          </p:cNvSpPr>
          <p:nvPr>
            <p:ph/>
          </p:nvPr>
        </p:nvSpPr>
        <p:spPr>
          <a:xfrm>
            <a:off x="666360" y="2017800"/>
            <a:ext cx="1127772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食品从业人员体检</a:t>
            </a:r>
            <a:endParaRPr b="0" lang="en-US" sz="36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食品生产经营者应当建立并执行从业人员健康管理制度。</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患有国务院卫生行政管理部门制定的相关规定中的疾病的人员，不得从事接触直接入口食品的工作。</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从事直接入口食品工作的食品从业人员应当每年进行健康检查，取得健康证明后方可上岗。</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15032-F3E0-4008-8B55-68FE48345B7C}"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755"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756"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0181C-2CE6-415F-8EFE-9533FC27479E}"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57"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E4810-1BC1-4990-9F9A-A014799B2289}"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758"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759"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A9172-37A2-4545-B906-578BA52834B3}"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食品生产经营过程</a:t>
            </a:r>
            <a:endParaRPr b="0" lang="en-US" sz="4800" spc="-1" strike="noStrike">
              <a:solidFill>
                <a:srgbClr val="000000"/>
              </a:solidFill>
              <a:latin typeface="Calibri Light"/>
            </a:endParaRPr>
          </a:p>
        </p:txBody>
      </p:sp>
      <p:sp>
        <p:nvSpPr>
          <p:cNvPr id="761"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列入禁止从事接触直接入口食品的工作的疾病范围</a:t>
            </a:r>
            <a:endParaRPr b="0" lang="en-US" sz="36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国家卫生计生委有碍食品安全的疾病目录》</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霍乱、细菌性和阿米巴性痢疾、伤寒和副伤寒、病毒性肝炎（甲型、戊型）、活动性肺结核、化脓性或者渗出性皮肤病。</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国家卫生计生委可以适时根据食品安全需要、相关疾病预防控制情况等因素对该目录进行调整。</a:t>
            </a:r>
            <a:endParaRPr b="0" lang="en-US" sz="3200" spc="-1" strike="noStrike">
              <a:solidFill>
                <a:srgbClr val="000000"/>
              </a:solidFill>
              <a:latin typeface="Calibri"/>
            </a:endParaRPr>
          </a:p>
          <a:p>
            <a:pPr lvl="1" marL="6858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0A95B-56C6-4CB6-9E4F-FC823A44EB79}"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763"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764"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5D6A5-A15C-479E-8172-183754A5192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65"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49514-4F5B-4273-B18C-F4ECD22B6AF0}"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766"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767"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016E1-CFD0-408C-B2F4-0DE5D2F3D4F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食品生产经营过程</a:t>
            </a:r>
            <a:endParaRPr b="0" lang="en-US" sz="4800" spc="-1" strike="noStrike">
              <a:solidFill>
                <a:srgbClr val="000000"/>
              </a:solidFill>
              <a:latin typeface="Calibri Light"/>
            </a:endParaRPr>
          </a:p>
        </p:txBody>
      </p:sp>
      <p:sp>
        <p:nvSpPr>
          <p:cNvPr id="769"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委托生产要求</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食品生产经营者委托生产食品的，应当委托取得食品生产许可并具有相应生产条件和能力的企业。</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受委托企业应当在获得生产许可的产品品种范围内，接受委托生产食品。</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受委托企业应当在受委托生产的食品的标签中，标明自己的名称、地址、联系方式和食品生产许可证编号等信息。</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B78DE-8EBA-4824-9B3A-1836FAC60B1C}"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771"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772"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15581-017C-410E-9139-0409FA35A33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73"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39455-40EA-47A2-8507-A2B3A14310D5}"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774"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775"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03CFA-DDCC-45CA-AC12-DFEC61B5BC9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食品生产经营过程</a:t>
            </a:r>
            <a:endParaRPr b="0" lang="en-US" sz="4800" spc="-1" strike="noStrike">
              <a:solidFill>
                <a:srgbClr val="000000"/>
              </a:solidFill>
              <a:latin typeface="Calibri Light"/>
            </a:endParaRPr>
          </a:p>
        </p:txBody>
      </p:sp>
      <p:sp>
        <p:nvSpPr>
          <p:cNvPr id="777"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贮存、运输企业的法律义务</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依法查验食品生产经营者的许可证件、营业执照或者身份证件、食品和食用农产品检验或者检疫合格证明等文件，做好进出库记录、运输记录。</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相关文件复印件和记录的保存期限不得少于产品保质期满后六个月或者不得少于二年；食用农产品不得少于六个月。</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有特殊温度、湿度控制要求的食品和食用农产品，应当进行全程温度、湿度监控，并做好监控记录。监控记录保存期限不得少于二年。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A8ACC-38A7-445B-947A-2FDCF50DC9A4}"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779"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780"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15DEC-9511-423D-8611-5A52184E921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81"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6AF61-86CB-4838-A159-5CFBFBC18C7F}"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782"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783"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240FC-01B6-4B61-906C-545D3B04E47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食品生产经营过程</a:t>
            </a:r>
            <a:endParaRPr b="0" lang="en-US" sz="4800" spc="-1" strike="noStrike">
              <a:solidFill>
                <a:srgbClr val="000000"/>
              </a:solidFill>
              <a:latin typeface="Calibri Light"/>
            </a:endParaRPr>
          </a:p>
        </p:txBody>
      </p:sp>
      <p:sp>
        <p:nvSpPr>
          <p:cNvPr id="785"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食用农产品批发交易市场、标准化菜市场的要求</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合理划定功能区，配备食品安全设施设备，保持环境卫生整洁</a:t>
            </a:r>
            <a:r>
              <a:rPr b="1" lang="en-US" sz="2800" spc="-1" strike="noStrike">
                <a:solidFill>
                  <a:srgbClr val="ea0f0a"/>
                </a:solidFill>
                <a:latin typeface="楷体_GB2312"/>
                <a:ea typeface="楷体_GB2312"/>
              </a:rPr>
              <a:t>;</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设立食品安全信息公示牌，配备专职食品安全管理员；</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建立入场食品经营者档案，并查验入场经营食品相关证明材料；</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指导并督促入场食品经营者建立食品经营记录；</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与入场食品经营者签订食品安全协议；</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按规定将相关信息上传至本市食品安全信息追溯平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C82AD-C6BF-4D8F-8110-A25ABCAC71A9}"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787"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788"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F325F-BCAE-4535-8076-8C0DC79F60F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89"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F401F-0E99-4B1B-9D45-8D772359EAFB}"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790"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791"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68079-69E8-46B9-85C3-395E203AFBB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9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食品生产经营过程</a:t>
            </a:r>
            <a:endParaRPr b="0" lang="en-US" sz="4800" spc="-1" strike="noStrike">
              <a:solidFill>
                <a:srgbClr val="000000"/>
              </a:solidFill>
              <a:latin typeface="Calibri Light"/>
            </a:endParaRPr>
          </a:p>
        </p:txBody>
      </p:sp>
      <p:sp>
        <p:nvSpPr>
          <p:cNvPr id="793"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企业自检</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食用农产品批发交易市场、大型超市卖场、中央厨房、集体用餐配送单位应当配备检验设备和检验人员或者委托有资质的食品检验机构；</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对入场销售或者采购的食品、食用农产品进行抽样检验；发现不符合食品安全标准的，应当立即采取控制措施，并向所在地的区市场监督管理部门报告。</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鼓励标准化菜市场配备食品快速检验设备和检验人员，为消费者提供检验服务。</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5F463-2426-4995-9CB4-2DB369B630B6}"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437"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438"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FDE4-C9E4-4666-AFB7-8B8B3D0FB7B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39"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AC57F-E57F-4655-B919-AA89C2BC8441}"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440"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441"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9AF57-25FC-4613-A449-85A5AB2F21E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4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立法背景</a:t>
            </a:r>
            <a:endParaRPr b="0" lang="en-US" sz="4800" spc="-1" strike="noStrike">
              <a:solidFill>
                <a:srgbClr val="000000"/>
              </a:solidFill>
              <a:latin typeface="Calibri Light"/>
            </a:endParaRPr>
          </a:p>
        </p:txBody>
      </p:sp>
      <p:sp>
        <p:nvSpPr>
          <p:cNvPr id="443" name="PlaceHolder 2"/>
          <p:cNvSpPr>
            <a:spLocks noGrp="1"/>
          </p:cNvSpPr>
          <p:nvPr>
            <p:ph/>
          </p:nvPr>
        </p:nvSpPr>
        <p:spPr>
          <a:xfrm>
            <a:off x="666360" y="2017800"/>
            <a:ext cx="10820520" cy="4338720"/>
          </a:xfrm>
          <a:prstGeom prst="rect">
            <a:avLst/>
          </a:prstGeom>
          <a:noFill/>
          <a:ln w="0">
            <a:noFill/>
          </a:ln>
        </p:spPr>
        <p:txBody>
          <a:bodyPr anchor="t">
            <a:normAutofit/>
          </a:bodyPr>
          <a:p>
            <a:pPr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制定《条例》是落实党中央加强食品安全工作要求，全面实施国家《食品安全法》的迫切需要。</a:t>
            </a:r>
            <a:endParaRPr b="0" lang="en-US" sz="32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习近平总书记、李克强总理等中央领导对食品安全工作作出重要批示，强调坚持“四个最严”，全面做好食品安全工作。</a:t>
            </a:r>
            <a:endParaRPr b="0" lang="en-US" sz="28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新《食品安全法》对原有</a:t>
            </a:r>
            <a:r>
              <a:rPr b="1" lang="en-US" sz="2800" spc="-1" strike="noStrike">
                <a:solidFill>
                  <a:srgbClr val="000000"/>
                </a:solidFill>
                <a:latin typeface="楷体_GB2312"/>
                <a:ea typeface="楷体_GB2312"/>
              </a:rPr>
              <a:t>70%</a:t>
            </a:r>
            <a:r>
              <a:rPr b="1" lang="zh-CN" sz="2800" spc="-1" strike="noStrike">
                <a:solidFill>
                  <a:srgbClr val="000000"/>
                </a:solidFill>
                <a:latin typeface="楷体_GB2312"/>
                <a:ea typeface="楷体_GB2312"/>
              </a:rPr>
              <a:t>的条文作了修改，建立了史上最严格的食品安全监管制度。</a:t>
            </a:r>
            <a:endParaRPr b="0" lang="en-US" sz="28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为了落实党中央要求、确保国家法律在本市的有效实施，有必要结合本市实际，对食品安全监管作出具体的细化规定。</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EFC04-4E84-40CC-BABD-927BD7D00267}"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795"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796"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6CC59-8149-4030-A1A1-372139ABEDF1}"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97"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F0510-814A-492C-95C2-08B38419A477}"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798"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799"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24EAC-B647-4162-9E3A-C3B56A141A5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0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食品生产经营过程</a:t>
            </a:r>
            <a:endParaRPr b="0" lang="en-US" sz="4800" spc="-1" strike="noStrike">
              <a:solidFill>
                <a:srgbClr val="000000"/>
              </a:solidFill>
              <a:latin typeface="Calibri Light"/>
            </a:endParaRPr>
          </a:p>
        </p:txBody>
      </p:sp>
      <p:sp>
        <p:nvSpPr>
          <p:cNvPr id="801" name="PlaceHolder 2"/>
          <p:cNvSpPr>
            <a:spLocks noGrp="1"/>
          </p:cNvSpPr>
          <p:nvPr>
            <p:ph/>
          </p:nvPr>
        </p:nvSpPr>
        <p:spPr>
          <a:xfrm>
            <a:off x="457200" y="2017800"/>
            <a:ext cx="1143000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散装食品的生产、销售</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0f0a"/>
                </a:solidFill>
                <a:latin typeface="楷体_GB2312"/>
                <a:ea typeface="楷体_GB2312"/>
              </a:rPr>
              <a:t>设立专区或者专柜；</a:t>
            </a:r>
            <a:endParaRPr b="0" lang="en-US" sz="24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0f0a"/>
                </a:solidFill>
                <a:latin typeface="楷体_GB2312"/>
                <a:ea typeface="楷体_GB2312"/>
              </a:rPr>
              <a:t>使用防尘遮盖、设置隔离设施、提供专用容器和取用工具，并定期清洗消毒；</a:t>
            </a:r>
            <a:endParaRPr b="0" lang="en-US" sz="24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0f0a"/>
                </a:solidFill>
                <a:latin typeface="楷体_GB2312"/>
                <a:ea typeface="楷体_GB2312"/>
              </a:rPr>
              <a:t>不得混装不同批次的散装食品；</a:t>
            </a:r>
            <a:endParaRPr b="0" lang="en-US" sz="24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0f0a"/>
                </a:solidFill>
                <a:latin typeface="楷体_GB2312"/>
                <a:ea typeface="楷体_GB2312"/>
              </a:rPr>
              <a:t>符合保证食品安全所需的温度、湿度等特殊要求；</a:t>
            </a:r>
            <a:endParaRPr b="0" lang="en-US" sz="24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散装食品的容器、外包装上标明食品的名称、生产日期或者生产批号、保质期以及生产经营者名称、地址、联系方式等内容；</a:t>
            </a:r>
            <a:endParaRPr b="0" lang="en-US" sz="24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法律、法规、规章规定的其他要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D48D6-062E-4BC5-9B07-0DD203916BE2}"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803"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804"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2DC6C-91E7-40DF-9F30-43387D1D679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05"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08B26-9647-47BF-9F2A-AFF8EFF8628D}"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806"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807"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B6EBD-378E-42BF-9BD2-34CA524D70E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食品生产经营过程</a:t>
            </a:r>
            <a:endParaRPr b="0" lang="en-US" sz="4800" spc="-1" strike="noStrike">
              <a:solidFill>
                <a:srgbClr val="000000"/>
              </a:solidFill>
              <a:latin typeface="Calibri Light"/>
            </a:endParaRPr>
          </a:p>
        </p:txBody>
      </p:sp>
      <p:sp>
        <p:nvSpPr>
          <p:cNvPr id="809" name="PlaceHolder 2"/>
          <p:cNvSpPr>
            <a:spLocks noGrp="1"/>
          </p:cNvSpPr>
          <p:nvPr>
            <p:ph/>
          </p:nvPr>
        </p:nvSpPr>
        <p:spPr>
          <a:xfrm>
            <a:off x="457200" y="2017800"/>
            <a:ext cx="1143000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散装食品的定义</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指无预先定量包装，需计量销售的食品，包括无包装和非定量包装的食品。</a:t>
            </a:r>
            <a:endParaRPr b="0" lang="en-US" sz="24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散装食品相对于预包装食品而言，一般指未预先定量包装，或者虽然经预先包装但需计量销售的食品，或者为便于销售事先称量的简易包装食品，包括裸装和非定量包装的食品，例如裸装的各类熟食、速冻食品、酱腌菜、蜜饯、炒货等，以及需要计量称重销售的包装食品。</a:t>
            </a:r>
            <a:endParaRPr b="0" lang="en-US" sz="2400" spc="-1" strike="noStrike">
              <a:solidFill>
                <a:srgbClr val="000000"/>
              </a:solidFill>
              <a:latin typeface="Calibri"/>
            </a:endParaRPr>
          </a:p>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散装食品的销售</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直接入口或者加工前无法清洗的散装食品销售时要求使用专门工具，由专门人员负责销售。</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BA893-2D49-489F-9579-C23A84D54224}"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811"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812"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862EF-2D9A-4053-8F53-0A55994E2AF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13"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70755-4A59-4341-8710-12FA181BBBDB}"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814"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815"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B1F71-009F-491E-BA28-733E61C8448E}"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1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食品生产经营过程</a:t>
            </a:r>
            <a:endParaRPr b="0" lang="en-US" sz="4800" spc="-1" strike="noStrike">
              <a:solidFill>
                <a:srgbClr val="000000"/>
              </a:solidFill>
              <a:latin typeface="Calibri Light"/>
            </a:endParaRPr>
          </a:p>
        </p:txBody>
      </p:sp>
      <p:sp>
        <p:nvSpPr>
          <p:cNvPr id="817"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餐饮服务提供者提供餐要求</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经营场所符合公共场所卫生要求；</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营业时段安排食品安全管理人员开展监督管理工作；</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根据消费者的要求，提供公筷、公匙等公用餐具；不得向消费者提供不符合食品安全标准和要求的餐具、饮具；</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法律、法规、规章规定的其他要求。</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鼓励餐饮服务提供者采用电子显示屏、透明玻璃墙等方式，公开食品加工过程、食品原料及其来源信息。</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13EC4-06CA-4C25-ADC8-FA87CDF28931}"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819"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820"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599A4-7024-4346-903B-096346ADA20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21"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76192-D376-4611-8033-51AFC08A7347}"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822"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823"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17C41-BAC6-48F8-A025-08E06438C3A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2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食品生产经营过程</a:t>
            </a:r>
            <a:endParaRPr b="0" lang="en-US" sz="4800" spc="-1" strike="noStrike">
              <a:solidFill>
                <a:srgbClr val="000000"/>
              </a:solidFill>
              <a:latin typeface="Calibri Light"/>
            </a:endParaRPr>
          </a:p>
        </p:txBody>
      </p:sp>
      <p:sp>
        <p:nvSpPr>
          <p:cNvPr id="825"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食品经营场所卫生要求</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国务院颁布的《公共场所卫生管理条例》规定</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饭馆、咖啡馆、茶座、酒吧等</a:t>
            </a:r>
            <a:r>
              <a:rPr b="1" lang="en-US" sz="2800" spc="-1" strike="noStrike">
                <a:solidFill>
                  <a:srgbClr val="000000"/>
                </a:solidFill>
                <a:latin typeface="楷体_GB2312"/>
                <a:ea typeface="楷体_GB2312"/>
              </a:rPr>
              <a:t>28</a:t>
            </a:r>
            <a:r>
              <a:rPr b="1" lang="zh-CN" sz="2800" spc="-1" strike="noStrike">
                <a:solidFill>
                  <a:srgbClr val="000000"/>
                </a:solidFill>
                <a:latin typeface="楷体_GB2312"/>
                <a:ea typeface="楷体_GB2312"/>
              </a:rPr>
              <a:t>类公共场所；</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卫生要求包括：微小气候（湿度、温度、风速）、空气质量、通风、食</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餐</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具等。</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114AB-E02C-44E3-943E-340AD8CBF16E}"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827"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828"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920D6-EDDB-4E6F-B6DA-E4AD72C1869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29"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A2786-6EEC-469F-817B-014CA5DEF6EA}"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830"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831"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F45E4-4A61-41CD-B808-5B8331810F7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3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食品生产经营过程</a:t>
            </a:r>
            <a:endParaRPr b="0" lang="en-US" sz="4800" spc="-1" strike="noStrike">
              <a:solidFill>
                <a:srgbClr val="000000"/>
              </a:solidFill>
              <a:latin typeface="Calibri Light"/>
            </a:endParaRPr>
          </a:p>
        </p:txBody>
      </p:sp>
      <p:sp>
        <p:nvSpPr>
          <p:cNvPr id="833"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食品展销会要求</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举办者应当依法审查并记录入场食品经营者的许可证件以及经营品种等相关信息，以书面形式明确其食品安全管理责任；</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举办七日前向举办地的区市场监督管理部门备案。区市场监督管理部门应当对食品展销会的食品安全进行指导。</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举办者发现入场食品经营者有违反食品安全管理规定的，应当及时制止并立即报告举办地的区市场监督管理部门。</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禁止在食品展销会上经营散装生食水产品和散装熟食卤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59A97-171C-4451-B5D4-84997B370EDD}"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835"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836"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1DCD4-EE7E-4E2B-BDCB-F54081B6CB9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37"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E090D-366D-46A8-B33A-89F30471D941}"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838"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839"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AC1BD-DE91-4C65-B2FC-EA6B5DDA9C0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4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食品生产经营过程</a:t>
            </a:r>
            <a:endParaRPr b="0" lang="en-US" sz="4800" spc="-1" strike="noStrike">
              <a:solidFill>
                <a:srgbClr val="000000"/>
              </a:solidFill>
              <a:latin typeface="Calibri Light"/>
            </a:endParaRPr>
          </a:p>
        </p:txBody>
      </p:sp>
      <p:sp>
        <p:nvSpPr>
          <p:cNvPr id="841"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农村集体聚餐</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举办者和承办者在举办前，将举办地点、预期参加人数等信息向所在地的乡、镇或者街道报告。乡、镇、街道和区市场监管局的派出机构指派专业人员进行现场指导。</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鼓励在符合食品安全条件的固定场所举办。在固定场所举办的，由该场所的经营管理者履行报告义务。</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举办者和承办者对食品安全负责。鼓励举办者和承办者之间、承办者和厨师等加工制作人员之间签订食品安全协议，明确各自的食品安全责任。</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9A5DB-43D8-47F2-B883-173BE6807932}"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843"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844"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61901-6D52-43B7-A1F0-E36465D6BB1E}"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45"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94AD8-03D8-41F6-AE4D-9CCB10582B60}"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846"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847"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C9855-1F37-400A-9CF4-0633FFCC192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4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食品生产经营过程</a:t>
            </a:r>
            <a:endParaRPr b="0" lang="en-US" sz="4800" spc="-1" strike="noStrike">
              <a:solidFill>
                <a:srgbClr val="000000"/>
              </a:solidFill>
              <a:latin typeface="Calibri Light"/>
            </a:endParaRPr>
          </a:p>
        </p:txBody>
      </p:sp>
      <p:sp>
        <p:nvSpPr>
          <p:cNvPr id="849"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农村集体聚餐</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承办者应当按照食品安全要求采购、贮存、加工制作食品，做好食品留样，并定期组织厨师等加工制作人员进行健康体检和食品安全知识培训。</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发生食品安全事故的，举办者和承办者应当及时向所在地的区市场监督管理部门报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457B7-844F-4888-9F45-676130C0CD35}"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851"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852"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F697A-9E12-40B3-958B-238E1989EEA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53"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70E64-0304-4882-A0E9-9C8D23C152C1}"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854"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855"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5DF9B-0554-4AEE-8354-70CE1E35CEA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食品生产经营过程</a:t>
            </a:r>
            <a:endParaRPr b="0" lang="en-US" sz="4800" spc="-1" strike="noStrike">
              <a:solidFill>
                <a:srgbClr val="000000"/>
              </a:solidFill>
              <a:latin typeface="Calibri Light"/>
            </a:endParaRPr>
          </a:p>
        </p:txBody>
      </p:sp>
      <p:sp>
        <p:nvSpPr>
          <p:cNvPr id="857"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小餐饮临时备案制度</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未取得食品经营许可，但经营食品符合食品安全卫生要求、不影响周边居民正常生活的小型餐饮服务提供者，应当向所在地的乡、镇或者街道临时备案。</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乡、镇或者街道应当将备案信息通报所在地的区市场监督管理、环境保护、房屋管理、消防安全、城市管理行政执法等部门，相关部门应当按照各自职责加强对小餐饮的日常监管。</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49EB1-E600-4530-A3F6-CCD77817AD75}"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859"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860"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B3754-E6CC-460A-8B7B-AC752339629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61"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48042-5E10-42FB-B645-68D37B993972}"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862"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863"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3F9EC-4983-4EA7-8F24-2BBFCAA254A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食品生产经营过程</a:t>
            </a:r>
            <a:endParaRPr b="0" lang="en-US" sz="4800" spc="-1" strike="noStrike">
              <a:solidFill>
                <a:srgbClr val="000000"/>
              </a:solidFill>
              <a:latin typeface="Calibri Light"/>
            </a:endParaRPr>
          </a:p>
        </p:txBody>
      </p:sp>
      <p:sp>
        <p:nvSpPr>
          <p:cNvPr id="865"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餐厨废弃油脂</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管理原则：资源化利用，收、运、一体化经营模式。</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定义：指除居民日常生活以外的在餐饮服务（含单位供餐）、食品生产加工以及食品现制现售等活动中产生的废弃食用动植物油脂和含食用动植物油脂的废水。</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产生餐厨废弃油脂的食品生产经营者的收集、缴运列入许可条件</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收运企业：定向收运，收运车辆、容器服装标识“三统一”</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处置企业：全程电子监控，炼制生物柴油</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21B82-F536-4835-9FEB-296AB81F9341}"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867"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868"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55955-832E-49E9-8468-CD8E68C4EAE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69"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D65B6-6D5F-4153-A1CD-3B208F66DE6A}"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870"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871"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E0E82-AF13-438A-815D-49D75CE9A78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a:t>
            </a:r>
            <a:r>
              <a:rPr b="1" lang="zh-CN" sz="4800" spc="-1" strike="noStrike">
                <a:solidFill>
                  <a:srgbClr val="000000"/>
                </a:solidFill>
                <a:latin typeface="Calibri Light"/>
              </a:rPr>
              <a:t>食用农产品</a:t>
            </a:r>
            <a:endParaRPr b="0" lang="en-US" sz="4800" spc="-1" strike="noStrike">
              <a:solidFill>
                <a:srgbClr val="000000"/>
              </a:solidFill>
              <a:latin typeface="Calibri Light"/>
            </a:endParaRPr>
          </a:p>
        </p:txBody>
      </p:sp>
      <p:sp>
        <p:nvSpPr>
          <p:cNvPr id="873" name="PlaceHolder 2"/>
          <p:cNvSpPr>
            <a:spLocks noGrp="1"/>
          </p:cNvSpPr>
          <p:nvPr>
            <p:ph/>
          </p:nvPr>
        </p:nvSpPr>
        <p:spPr>
          <a:xfrm>
            <a:off x="666720" y="2017800"/>
            <a:ext cx="11182320" cy="433872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0f0a"/>
                </a:solidFill>
                <a:latin typeface="楷体_GB2312"/>
                <a:ea typeface="楷体_GB2312"/>
              </a:rPr>
              <a:t>食用农产品生产经营要求</a:t>
            </a:r>
            <a:endParaRPr b="0" lang="en-US" sz="36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市、区政府应当制定食用农产品生产基地规划，加强食用农产品生产基地标准化建设。</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鼓励和支持符合条件的食用农产品生产者申请无公害农产品、绿色食品、有机食品认证以及农产品地理标志登记。</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外省市的畜禽、畜禽产品应当通过指定道口，取得道口检查签章后，方可进入本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F3C78-BD8A-4C93-A88D-6847028DCB33}"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445"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446"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70D36-2D43-4B65-AEA5-D3F00F87EA1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47"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BBA22-0726-4C1B-8B96-D41C26F19490}"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448"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449"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A14CC-B620-48BC-967E-22BDC32513A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立法背景</a:t>
            </a:r>
            <a:endParaRPr b="0" lang="en-US" sz="4800" spc="-1" strike="noStrike">
              <a:solidFill>
                <a:srgbClr val="000000"/>
              </a:solidFill>
              <a:latin typeface="Calibri Light"/>
            </a:endParaRPr>
          </a:p>
        </p:txBody>
      </p:sp>
      <p:sp>
        <p:nvSpPr>
          <p:cNvPr id="451" name="PlaceHolder 2"/>
          <p:cNvSpPr>
            <a:spLocks noGrp="1"/>
          </p:cNvSpPr>
          <p:nvPr>
            <p:ph/>
          </p:nvPr>
        </p:nvSpPr>
        <p:spPr>
          <a:xfrm>
            <a:off x="666360" y="2017800"/>
            <a:ext cx="10820520" cy="4338720"/>
          </a:xfrm>
          <a:prstGeom prst="rect">
            <a:avLst/>
          </a:prstGeom>
          <a:noFill/>
          <a:ln w="0">
            <a:noFill/>
          </a:ln>
        </p:spPr>
        <p:txBody>
          <a:bodyPr anchor="t">
            <a:normAutofit/>
          </a:bodyPr>
          <a:p>
            <a:pPr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制定《条例》是推动解决本市食品安全监管短板问题，回应人民群众普遍关切的现实需要。</a:t>
            </a:r>
            <a:endParaRPr b="0" lang="en-US" sz="32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上海作为一个超大型城市，保障人民群众“舌尖上的安全”历来是全市工作的重中之重。在市委、市政府领导下，经过社会各方的共同努力，上海食品安全总体有序可控、稳中向好。</a:t>
            </a:r>
            <a:endParaRPr b="0" lang="en-US" sz="28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市场准入、食用农产品、网络食品、小型餐饮服务等还存在一些短板问题，不能适应全市人民对食品安全的更高期待。</a:t>
            </a:r>
            <a:endParaRPr b="0" lang="en-US" sz="28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有必要完善本市食品监管的体制机制，固化食品安全工作的成功经验，切实推动解决群众反映的突出问题。</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65C39-7145-476E-BEC9-FBCD69A2C634}"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875"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876"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36075-6DD0-4AD2-B1A8-F917C0BD53F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77"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94251-6C8F-4918-8663-E2507936A059}"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878"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879"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ADB61-C016-4199-B7EA-AC050BC78CE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a:t>
            </a:r>
            <a:r>
              <a:rPr b="1" lang="zh-CN" sz="4800" spc="-1" strike="noStrike">
                <a:solidFill>
                  <a:srgbClr val="000000"/>
                </a:solidFill>
                <a:latin typeface="Calibri Light"/>
              </a:rPr>
              <a:t>食用农产品</a:t>
            </a:r>
            <a:endParaRPr b="0" lang="en-US" sz="4800" spc="-1" strike="noStrike">
              <a:solidFill>
                <a:srgbClr val="000000"/>
              </a:solidFill>
              <a:latin typeface="Calibri Light"/>
            </a:endParaRPr>
          </a:p>
        </p:txBody>
      </p:sp>
      <p:sp>
        <p:nvSpPr>
          <p:cNvPr id="881"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农业投入品生产经营要求</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0f0a"/>
                </a:solidFill>
                <a:latin typeface="楷体_GB2312"/>
                <a:ea typeface="楷体_GB2312"/>
              </a:rPr>
              <a:t>农业投入品（农药、兽药、饲料和饲料添加剂、肥料）的经营者应当建立经营记录，如实记载购入农业投入品的名称、数量、进货日期和供货者名称、地址、联系方式，以及销售农业投入品的名称、数量、销售日期和购货者名称、地址、联系方式等内容。记录保存期限不得少于二年。</a:t>
            </a:r>
            <a:endParaRPr b="0" lang="en-US" sz="24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0f0a"/>
                </a:solidFill>
                <a:latin typeface="楷体_GB2312"/>
                <a:ea typeface="楷体_GB2312"/>
              </a:rPr>
              <a:t>销售农业投入品时，应当向购货者提供说明书，告知其农业投入品的用法、用量、使用范围等信息。</a:t>
            </a:r>
            <a:endParaRPr b="0" lang="en-US" sz="24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0f0a"/>
                </a:solidFill>
                <a:latin typeface="楷体_GB2312"/>
                <a:ea typeface="楷体_GB2312"/>
              </a:rPr>
              <a:t>食用农产品生产者应当依法建立农业投入品使用记录，如实记载使用农业投入品的名称、来源、用法、用量和使用、停用的日期。记录保存期限不得少于二年。</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322F-E967-43D6-9A8D-666E4C75D5DE}"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883"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884"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C9FA2-0526-4706-B954-661D7842765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85"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46860-80A1-4B61-B9AF-F88CE6008265}"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886"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887"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971D2-9395-440D-B383-3710812D6D5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8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a:t>
            </a:r>
            <a:r>
              <a:rPr b="1" lang="zh-CN" sz="4800" spc="-1" strike="noStrike">
                <a:solidFill>
                  <a:srgbClr val="000000"/>
                </a:solidFill>
                <a:latin typeface="Calibri Light"/>
              </a:rPr>
              <a:t>食用农产品</a:t>
            </a:r>
            <a:endParaRPr b="0" lang="en-US" sz="4800" spc="-1" strike="noStrike">
              <a:solidFill>
                <a:srgbClr val="000000"/>
              </a:solidFill>
              <a:latin typeface="Calibri Light"/>
            </a:endParaRPr>
          </a:p>
        </p:txBody>
      </p:sp>
      <p:sp>
        <p:nvSpPr>
          <p:cNvPr id="889"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禁止生产经营的行为</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使用国家禁止使用的农业投入品；</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超范围或者超剂量使用国家限制使用的农业投入品；</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收获、屠宰、捕捞未达到安全间隔期、休药期的食用农产品；</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对畜禽、畜禽产品灌注水或者其他物质；</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在食用农产品生产、销售、贮存和运输过程中添加可能危害人体健康的物质；</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法律、法规、规章规定的其他禁止行为。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C25F7-C8E0-40FD-A458-00363C44CF70}"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891"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892"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6CA14-41DE-458A-A79A-936AD30D504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93"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B7D39-3578-4856-B53A-5E6F9121D749}"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894"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895"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F09EF-185F-4FFF-BC8E-25BA348FBCB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9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a:t>
            </a:r>
            <a:r>
              <a:rPr b="1" lang="zh-CN" sz="4800" spc="-1" strike="noStrike">
                <a:solidFill>
                  <a:srgbClr val="000000"/>
                </a:solidFill>
                <a:latin typeface="Calibri Light"/>
              </a:rPr>
              <a:t>食用农产品</a:t>
            </a:r>
            <a:endParaRPr b="0" lang="en-US" sz="4800" spc="-1" strike="noStrike">
              <a:solidFill>
                <a:srgbClr val="000000"/>
              </a:solidFill>
              <a:latin typeface="Calibri Light"/>
            </a:endParaRPr>
          </a:p>
        </p:txBody>
      </p:sp>
      <p:sp>
        <p:nvSpPr>
          <p:cNvPr id="897"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食用农产品的销售</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上市销售的肉类产品应当附有检疫合格证明；上市销售的其他食用农产品应当附有产地证明、检测合格证明。</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批发交易市场开办者应当查验入场销售者的身份证明，入场销售食用农产品的产地证明、检测合格证明或者检疫合格证明。</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销售者无法提供食用农产品产地证明、检测合格证明的，食用农产品批发交易市场开办者应当进行抽样检验或者快速检测；抽样检验或者快速检测合格的，方可入场销售。</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AD286-4E84-474E-B3DB-64553CE67E38}"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899"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900"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1A8F7-1C7B-4A20-9E38-9293729ECD9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01"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14D5C-8C6B-44E4-8896-F2C4B4EA2ADA}"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902"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903"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C5391-D965-4709-AAB7-DAE1ACB0D0E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0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a:t>
            </a:r>
            <a:r>
              <a:rPr b="1" lang="zh-CN" sz="4800" spc="-1" strike="noStrike">
                <a:solidFill>
                  <a:srgbClr val="000000"/>
                </a:solidFill>
                <a:latin typeface="Calibri Light"/>
              </a:rPr>
              <a:t>网络食品经营</a:t>
            </a:r>
            <a:endParaRPr b="0" lang="en-US" sz="4800" spc="-1" strike="noStrike">
              <a:solidFill>
                <a:srgbClr val="000000"/>
              </a:solidFill>
              <a:latin typeface="Calibri Light"/>
            </a:endParaRPr>
          </a:p>
        </p:txBody>
      </p:sp>
      <p:sp>
        <p:nvSpPr>
          <p:cNvPr id="905"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第三方平台的备案制度</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在本市注册登记的网络食品交易第三方平台提供者，应当在通信管理部门批准后</a:t>
            </a:r>
            <a:r>
              <a:rPr b="1" lang="en-US" sz="2800" spc="-1" strike="noStrike">
                <a:solidFill>
                  <a:srgbClr val="ea0f0a"/>
                </a:solidFill>
                <a:latin typeface="楷体_GB2312"/>
                <a:ea typeface="楷体_GB2312"/>
              </a:rPr>
              <a:t>30</a:t>
            </a:r>
            <a:r>
              <a:rPr b="1" lang="zh-CN" sz="2800" spc="-1" strike="noStrike">
                <a:solidFill>
                  <a:srgbClr val="ea0f0a"/>
                </a:solidFill>
                <a:latin typeface="楷体_GB2312"/>
                <a:ea typeface="楷体_GB2312"/>
              </a:rPr>
              <a:t>日内，向市食药监局备案，取得备案号；</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在外省市注册登记的，自在本市提供网络食品交易第三方平台服务之日起</a:t>
            </a:r>
            <a:r>
              <a:rPr b="1" lang="en-US" sz="2800" spc="-1" strike="noStrike">
                <a:solidFill>
                  <a:srgbClr val="ea0f0a"/>
                </a:solidFill>
                <a:latin typeface="楷体_GB2312"/>
                <a:ea typeface="楷体_GB2312"/>
              </a:rPr>
              <a:t>30</a:t>
            </a:r>
            <a:r>
              <a:rPr b="1" lang="zh-CN" sz="2800" spc="-1" strike="noStrike">
                <a:solidFill>
                  <a:srgbClr val="ea0f0a"/>
                </a:solidFill>
                <a:latin typeface="楷体_GB2312"/>
                <a:ea typeface="楷体_GB2312"/>
              </a:rPr>
              <a:t>日内，将其在本市实际运营机构的地址、负责人、联系方式等相关信息向市食药监局备案。</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自建网站交易的，应当在通信管理部门批准后</a:t>
            </a:r>
            <a:r>
              <a:rPr b="1" lang="en-US" sz="2800" spc="-1" strike="noStrike">
                <a:solidFill>
                  <a:srgbClr val="ea0f0a"/>
                </a:solidFill>
                <a:latin typeface="楷体_GB2312"/>
                <a:ea typeface="楷体_GB2312"/>
              </a:rPr>
              <a:t>30</a:t>
            </a:r>
            <a:r>
              <a:rPr b="1" lang="zh-CN" sz="2800" spc="-1" strike="noStrike">
                <a:solidFill>
                  <a:srgbClr val="ea0f0a"/>
                </a:solidFill>
                <a:latin typeface="楷体_GB2312"/>
                <a:ea typeface="楷体_GB2312"/>
              </a:rPr>
              <a:t>日内，向所在地的区市场监管局备案，取得备案号。</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41801-DEC6-42BD-9ABE-0237FC3A63BE}"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907"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908"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0DE1E-D09E-4486-83ED-F0B14C85A34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09"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1C0F6-0058-4B0C-9638-32648C273144}"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910"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911"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95B04-F53B-4F48-B09E-599F9E1B8BC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a:t>
            </a:r>
            <a:r>
              <a:rPr b="1" lang="zh-CN" sz="4800" spc="-1" strike="noStrike">
                <a:solidFill>
                  <a:srgbClr val="000000"/>
                </a:solidFill>
                <a:latin typeface="Calibri Light"/>
              </a:rPr>
              <a:t>网络食品经营</a:t>
            </a:r>
            <a:endParaRPr b="0" lang="en-US" sz="4800" spc="-1" strike="noStrike">
              <a:solidFill>
                <a:srgbClr val="000000"/>
              </a:solidFill>
              <a:latin typeface="Calibri Light"/>
            </a:endParaRPr>
          </a:p>
        </p:txBody>
      </p:sp>
      <p:sp>
        <p:nvSpPr>
          <p:cNvPr id="913" name="PlaceHolder 2"/>
          <p:cNvSpPr>
            <a:spLocks noGrp="1"/>
          </p:cNvSpPr>
          <p:nvPr>
            <p:ph/>
          </p:nvPr>
        </p:nvSpPr>
        <p:spPr>
          <a:xfrm>
            <a:off x="666360" y="2017800"/>
            <a:ext cx="11030040" cy="4338720"/>
          </a:xfrm>
          <a:prstGeom prst="rect">
            <a:avLst/>
          </a:prstGeom>
          <a:noFill/>
          <a:ln w="0">
            <a:noFill/>
          </a:ln>
        </p:spPr>
        <p:txBody>
          <a:bodyPr anchor="t">
            <a:normAutofit fontScale="98000"/>
          </a:bodyPr>
          <a:p>
            <a:pPr marL="223920" indent="-22392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网络食品交易第三方平台的管理责任</a:t>
            </a:r>
            <a:endParaRPr b="0" lang="en-US" sz="2800" spc="-1" strike="noStrike">
              <a:solidFill>
                <a:srgbClr val="000000"/>
              </a:solidFill>
              <a:latin typeface="Calibri"/>
            </a:endParaRPr>
          </a:p>
          <a:p>
            <a:pPr lvl="1" marL="671760" indent="-22392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0f0a"/>
                </a:solidFill>
                <a:latin typeface="楷体_GB2312"/>
                <a:ea typeface="楷体_GB2312"/>
              </a:rPr>
              <a:t>明确入网食品经营者的准入标准和食品安全责任；</a:t>
            </a:r>
            <a:endParaRPr b="0" lang="en-US" sz="2400" spc="-1" strike="noStrike">
              <a:solidFill>
                <a:srgbClr val="000000"/>
              </a:solidFill>
              <a:latin typeface="Calibri"/>
            </a:endParaRPr>
          </a:p>
          <a:p>
            <a:pPr lvl="1" marL="671760" indent="-22392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0f0a"/>
                </a:solidFill>
                <a:latin typeface="楷体_GB2312"/>
                <a:ea typeface="楷体_GB2312"/>
              </a:rPr>
              <a:t>对入网食品经营者进行实名登记；</a:t>
            </a:r>
            <a:endParaRPr b="0" lang="en-US" sz="2400" spc="-1" strike="noStrike">
              <a:solidFill>
                <a:srgbClr val="000000"/>
              </a:solidFill>
              <a:latin typeface="Calibri"/>
            </a:endParaRPr>
          </a:p>
          <a:p>
            <a:pPr lvl="1" marL="671760" indent="-22392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0f0a"/>
                </a:solidFill>
                <a:latin typeface="楷体_GB2312"/>
                <a:ea typeface="楷体_GB2312"/>
              </a:rPr>
              <a:t>通过与监管部门信息比对、现场核查，对食品经营者许可证件进行审查；</a:t>
            </a:r>
            <a:endParaRPr b="0" lang="en-US" sz="2400" spc="-1" strike="noStrike">
              <a:solidFill>
                <a:srgbClr val="000000"/>
              </a:solidFill>
              <a:latin typeface="Calibri"/>
            </a:endParaRPr>
          </a:p>
          <a:p>
            <a:pPr lvl="1" marL="671760" indent="-22392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0f0a"/>
                </a:solidFill>
                <a:latin typeface="楷体_GB2312"/>
                <a:ea typeface="楷体_GB2312"/>
              </a:rPr>
              <a:t>对平台上的食品经营行为及信息进行检查，并公布检查结果；</a:t>
            </a:r>
            <a:endParaRPr b="0" lang="en-US" sz="2400" spc="-1" strike="noStrike">
              <a:solidFill>
                <a:srgbClr val="000000"/>
              </a:solidFill>
              <a:latin typeface="Calibri"/>
            </a:endParaRPr>
          </a:p>
          <a:p>
            <a:pPr lvl="1" marL="671760" indent="-22392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0f0a"/>
                </a:solidFill>
                <a:latin typeface="楷体_GB2312"/>
                <a:ea typeface="楷体_GB2312"/>
              </a:rPr>
              <a:t>公示入网食品经营者的食品安全信用状况；</a:t>
            </a:r>
            <a:endParaRPr b="0" lang="en-US" sz="2400" spc="-1" strike="noStrike">
              <a:solidFill>
                <a:srgbClr val="000000"/>
              </a:solidFill>
              <a:latin typeface="Calibri"/>
            </a:endParaRPr>
          </a:p>
          <a:p>
            <a:pPr lvl="1" marL="671760" indent="-22392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0f0a"/>
                </a:solidFill>
                <a:latin typeface="楷体_GB2312"/>
                <a:ea typeface="楷体_GB2312"/>
              </a:rPr>
              <a:t>及时制止食品经营者的违法行为，并向其所在地的区市场监管部门报告；</a:t>
            </a:r>
            <a:endParaRPr b="0" lang="en-US" sz="2400" spc="-1" strike="noStrike">
              <a:solidFill>
                <a:srgbClr val="000000"/>
              </a:solidFill>
              <a:latin typeface="Calibri"/>
            </a:endParaRPr>
          </a:p>
          <a:p>
            <a:pPr lvl="1" marL="671760" indent="-22392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0f0a"/>
                </a:solidFill>
                <a:latin typeface="楷体_GB2312"/>
                <a:ea typeface="楷体_GB2312"/>
              </a:rPr>
              <a:t>对平台上经营的食品进行抽样检验；</a:t>
            </a:r>
            <a:endParaRPr b="0" lang="en-US" sz="2400" spc="-1" strike="noStrike">
              <a:solidFill>
                <a:srgbClr val="000000"/>
              </a:solidFill>
              <a:latin typeface="Calibri"/>
            </a:endParaRPr>
          </a:p>
          <a:p>
            <a:pPr lvl="1" marL="671760" indent="-22392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0f0a"/>
                </a:solidFill>
                <a:latin typeface="楷体_GB2312"/>
                <a:ea typeface="楷体_GB2312"/>
              </a:rPr>
              <a:t>法律、法规、规章规定的其他管理责任。</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6E917-37D4-4FA9-811F-08AB41477D07}"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915"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916"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E802F-35EB-448D-8904-D7C4C66E0C0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17"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3E4B7-706B-4A80-B01E-5F2576772DC4}"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918"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919"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E54B8-6F8A-49D3-BD5F-7FEB0540362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2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a:t>
            </a:r>
            <a:r>
              <a:rPr b="1" lang="zh-CN" sz="4800" spc="-1" strike="noStrike">
                <a:solidFill>
                  <a:srgbClr val="000000"/>
                </a:solidFill>
                <a:latin typeface="Calibri Light"/>
              </a:rPr>
              <a:t>网络食品经营</a:t>
            </a:r>
            <a:endParaRPr b="0" lang="en-US" sz="4800" spc="-1" strike="noStrike">
              <a:solidFill>
                <a:srgbClr val="000000"/>
              </a:solidFill>
              <a:latin typeface="Calibri Light"/>
            </a:endParaRPr>
          </a:p>
        </p:txBody>
      </p:sp>
      <p:sp>
        <p:nvSpPr>
          <p:cNvPr id="921"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0f0a"/>
                </a:solidFill>
                <a:latin typeface="楷体_GB2312"/>
                <a:ea typeface="楷体_GB2312"/>
              </a:rPr>
              <a:t>网络食品交易第三方平台的管理责任（</a:t>
            </a:r>
            <a:r>
              <a:rPr b="1" lang="en-US" sz="3600" spc="-1" strike="noStrike">
                <a:solidFill>
                  <a:srgbClr val="ea0f0a"/>
                </a:solidFill>
                <a:latin typeface="楷体_GB2312"/>
                <a:ea typeface="楷体_GB2312"/>
              </a:rPr>
              <a:t>2</a:t>
            </a:r>
            <a:r>
              <a:rPr b="1" lang="zh-CN" sz="3600" spc="-1" strike="noStrike">
                <a:solidFill>
                  <a:srgbClr val="ea0f0a"/>
                </a:solidFill>
                <a:latin typeface="楷体_GB2312"/>
                <a:ea typeface="楷体_GB2312"/>
              </a:rPr>
              <a:t>）</a:t>
            </a:r>
            <a:endParaRPr b="0" lang="en-US" sz="36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网络食品交易第三方平台提供者发现入网食品经营者存在未经许可从事食品经营、经营禁止生产经营的食品、发生食品安全事故等严重违法行为的，应当立即停止为其提供网络交易平台服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578E2-A003-4B0F-9839-0D537453999A}"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923"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924"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85362-92C9-4917-8496-85346693A76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25"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9227A-3640-4FC2-83AA-2599B3E3F924}"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926"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927"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AB6ED-1395-4051-A943-8B6FE6A5DBB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2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a:t>
            </a:r>
            <a:r>
              <a:rPr b="1" lang="zh-CN" sz="4800" spc="-1" strike="noStrike">
                <a:solidFill>
                  <a:srgbClr val="000000"/>
                </a:solidFill>
                <a:latin typeface="Calibri Light"/>
              </a:rPr>
              <a:t>网络食品经营</a:t>
            </a:r>
            <a:endParaRPr b="0" lang="en-US" sz="4800" spc="-1" strike="noStrike">
              <a:solidFill>
                <a:srgbClr val="000000"/>
              </a:solidFill>
              <a:latin typeface="Calibri Light"/>
            </a:endParaRPr>
          </a:p>
        </p:txBody>
      </p:sp>
      <p:sp>
        <p:nvSpPr>
          <p:cNvPr id="929"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仅为入网食品经营者提供信息发布服务的第三方平台</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明确入网食品经营者的准入标准和食品安全责任；</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对入网食品经营者进行实名登记；</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通过与监管部门信息比对、现场核查，对食品经营者许可证件进行审查；</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对平台上的食品经营信息进行检查，及时删除或者屏蔽入网食品经营者发布的违法信息。</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80C0E-A8BC-4ABE-A71C-3BDD3C4DDFFF}"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931"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932"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ECA45-1759-4AC7-BA3A-D65C5816C89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33"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11404-9659-4BC4-BF6C-EF048D5C7A5A}"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934"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935"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C6BC7-5935-42C3-AA31-916F6359F96A}"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3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a:t>
            </a:r>
            <a:r>
              <a:rPr b="1" lang="zh-CN" sz="4800" spc="-1" strike="noStrike">
                <a:solidFill>
                  <a:srgbClr val="000000"/>
                </a:solidFill>
                <a:latin typeface="Calibri Light"/>
              </a:rPr>
              <a:t>网络食品经营</a:t>
            </a:r>
            <a:endParaRPr b="0" lang="en-US" sz="4800" spc="-1" strike="noStrike">
              <a:solidFill>
                <a:srgbClr val="000000"/>
              </a:solidFill>
              <a:latin typeface="Calibri Light"/>
            </a:endParaRPr>
          </a:p>
        </p:txBody>
      </p:sp>
      <p:sp>
        <p:nvSpPr>
          <p:cNvPr id="937"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0f0a"/>
                </a:solidFill>
                <a:latin typeface="楷体_GB2312"/>
                <a:ea typeface="楷体_GB2312"/>
              </a:rPr>
              <a:t>网络食品经营者的法律义务</a:t>
            </a:r>
            <a:endParaRPr b="0" lang="en-US" sz="36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依法取得食品生产经营许可，并按照规定在自建交易网站或者网络食品交易第三方平台的首页显著位置或者经营活动主页面醒目位置，公示其营业执照、食品生产经营许可证件、从业人员健康证明、食品安全量化分级管理等信息。</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相关信息应当完整、真实、清晰，发生变化的，在十日内更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A3387-481F-4BB2-9297-79863A842539}"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939"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940"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94556-D54E-4FBF-ADC7-1752FB8A7EB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41"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2CEA4-E9C5-468B-B08F-02C8C8EA182C}"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942"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943"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C3FE5-A4E6-4424-AC58-C0E528838751}"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a:t>
            </a:r>
            <a:r>
              <a:rPr b="1" lang="zh-CN" sz="4800" spc="-1" strike="noStrike">
                <a:solidFill>
                  <a:srgbClr val="000000"/>
                </a:solidFill>
                <a:latin typeface="Calibri Light"/>
              </a:rPr>
              <a:t>网络食品经营</a:t>
            </a:r>
            <a:endParaRPr b="0" lang="en-US" sz="4800" spc="-1" strike="noStrike">
              <a:solidFill>
                <a:srgbClr val="000000"/>
              </a:solidFill>
              <a:latin typeface="Calibri Light"/>
            </a:endParaRPr>
          </a:p>
        </p:txBody>
      </p:sp>
      <p:sp>
        <p:nvSpPr>
          <p:cNvPr id="945" name="PlaceHolder 2"/>
          <p:cNvSpPr>
            <a:spLocks noGrp="1"/>
          </p:cNvSpPr>
          <p:nvPr>
            <p:ph/>
          </p:nvPr>
        </p:nvSpPr>
        <p:spPr>
          <a:xfrm>
            <a:off x="666360" y="2017800"/>
            <a:ext cx="11030040" cy="433872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0f0a"/>
                </a:solidFill>
                <a:latin typeface="楷体_GB2312"/>
                <a:ea typeface="楷体_GB2312"/>
              </a:rPr>
              <a:t>网络交易食品的贮存和运输</a:t>
            </a:r>
            <a:endParaRPr b="0" lang="en-US" sz="36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从事网络交易食品配送的网络食品经营者、网络食品交易第三方平台提供者、物流配送企业应当遵守有关法律、法规对贮存、运输食品以及餐具、饮具、容器和包装材料的要求；</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加强对配送人员的培训和管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DDDBF-B3E6-4162-B5F6-199BD54FED3B}"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947"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948"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349EE-8BC3-482B-A2FA-8C308168A701}"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49"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FD7BC-C52F-48FE-8748-5575250BCFAC}"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950"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951"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850A2-4985-4050-8B13-2208142C05DA}"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三章 </a:t>
            </a:r>
            <a:r>
              <a:rPr b="1" lang="zh-CN" sz="4800" spc="-1" strike="noStrike">
                <a:solidFill>
                  <a:srgbClr val="000000"/>
                </a:solidFill>
                <a:latin typeface="Calibri Light"/>
              </a:rPr>
              <a:t>网络食品经营</a:t>
            </a:r>
            <a:endParaRPr b="0" lang="en-US" sz="4800" spc="-1" strike="noStrike">
              <a:solidFill>
                <a:srgbClr val="000000"/>
              </a:solidFill>
              <a:latin typeface="Calibri Light"/>
            </a:endParaRPr>
          </a:p>
        </p:txBody>
      </p:sp>
      <p:sp>
        <p:nvSpPr>
          <p:cNvPr id="953" name="PlaceHolder 2"/>
          <p:cNvSpPr>
            <a:spLocks noGrp="1"/>
          </p:cNvSpPr>
          <p:nvPr>
            <p:ph/>
          </p:nvPr>
        </p:nvSpPr>
        <p:spPr>
          <a:xfrm>
            <a:off x="666720" y="2017800"/>
            <a:ext cx="11258640" cy="433872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0f0a"/>
                </a:solidFill>
                <a:latin typeface="楷体_GB2312"/>
                <a:ea typeface="楷体_GB2312"/>
              </a:rPr>
              <a:t>网络订餐配送要求</a:t>
            </a:r>
            <a:endParaRPr b="0" lang="en-US" sz="36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送餐人员应当依法取得健康证明；</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配送膳食的箱（包）应当专用，定期清洁、消毒；</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符合保证食品安全所需的温度等特殊要求；</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使用符合食品安全标准的餐具、饮具、容器和包装材料；</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法律、法规、规章规定的其他要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949E6-6649-415B-8F7A-DA49493088DA}"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453"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454"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675E1-0CA4-4162-AAE7-15F746C4FF6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55"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F2D07-FF99-4C53-AB06-3C10FE22E921}"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456"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457"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4014A-4099-4C46-BEA4-DF99B66B585A}"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5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立法背景</a:t>
            </a:r>
            <a:endParaRPr b="0" lang="en-US" sz="4800" spc="-1" strike="noStrike">
              <a:solidFill>
                <a:srgbClr val="000000"/>
              </a:solidFill>
              <a:latin typeface="Calibri Light"/>
            </a:endParaRPr>
          </a:p>
        </p:txBody>
      </p:sp>
      <p:sp>
        <p:nvSpPr>
          <p:cNvPr id="459" name="PlaceHolder 2"/>
          <p:cNvSpPr>
            <a:spLocks noGrp="1"/>
          </p:cNvSpPr>
          <p:nvPr>
            <p:ph/>
          </p:nvPr>
        </p:nvSpPr>
        <p:spPr>
          <a:xfrm>
            <a:off x="666360" y="2017800"/>
            <a:ext cx="10820520" cy="4338720"/>
          </a:xfrm>
          <a:prstGeom prst="rect">
            <a:avLst/>
          </a:prstGeom>
          <a:noFill/>
          <a:ln w="0">
            <a:noFill/>
          </a:ln>
        </p:spPr>
        <p:txBody>
          <a:bodyPr anchor="t">
            <a:normAutofit/>
          </a:bodyPr>
          <a:p>
            <a:pPr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制定《条例》是贯彻上海建设市民满意的食品安全城市，建成现代化国际大都市的内在要求。</a:t>
            </a:r>
            <a:endParaRPr b="0" lang="en-US" sz="32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十三五”是上海建设社会主义现代化国际大都市的关键时期，市委、市政府提出了“建设市民满意的食品安全城市”的目标。围绕这一工作目标，有必要通过立法明确食品生产经营企业的主体责任，依法赋予承担食品安全监管职责的政府职能部门相应的监管手段，强化制度规范，以更高的标准、更严的要求构建本市“舌尖上的安全”体系，展示上海现代化国际大都市的形象，进一步提升上海城市综合竞争力和软实力。</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055EC-7959-40EB-B031-343C34EC7FB0}"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955"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956"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A1AD-C5FA-4663-8A6A-86B5FDAB26A1}"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57"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0166B-D6FE-442E-920A-421701AC68ED}"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958"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959"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08A5B-662A-4B12-A63E-B1FE30213D9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四章 食品生产加工小作坊</a:t>
            </a:r>
            <a:endParaRPr b="0" lang="en-US" sz="4800" spc="-1" strike="noStrike">
              <a:solidFill>
                <a:srgbClr val="000000"/>
              </a:solidFill>
              <a:latin typeface="Calibri Light"/>
            </a:endParaRPr>
          </a:p>
        </p:txBody>
      </p:sp>
      <p:sp>
        <p:nvSpPr>
          <p:cNvPr id="961" name="PlaceHolder 2"/>
          <p:cNvSpPr>
            <a:spLocks noGrp="1"/>
          </p:cNvSpPr>
          <p:nvPr>
            <p:ph/>
          </p:nvPr>
        </p:nvSpPr>
        <p:spPr>
          <a:xfrm>
            <a:off x="666720" y="2017800"/>
            <a:ext cx="1101096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准许生产加工的条件</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有与生产加工的食品品种、数量相适应的生产加工场所，环境整洁，并与有毒、有害场所以及其他污染源保持规定的安全距离；</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有与生产加工的食品品种、数量相适应的生产加工和卫生、污水及废弃物处理设备或者设施；</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有保证食品安全的规章制度；</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有合理的设备布局和工艺流程。</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607A9-72D1-45BC-8528-FEBB4F647C0E}"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963"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964"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9281C-E23B-4A59-BDA6-07747CDCD49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65"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34031-77F7-49FB-8523-CD99AA72C5EB}"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966"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967"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76ABA-A2FF-4D1A-94E2-3AB44773B44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四章 食品生产加工小作坊</a:t>
            </a:r>
            <a:endParaRPr b="0" lang="en-US" sz="4800" spc="-1" strike="noStrike">
              <a:solidFill>
                <a:srgbClr val="000000"/>
              </a:solidFill>
              <a:latin typeface="Calibri Light"/>
            </a:endParaRPr>
          </a:p>
        </p:txBody>
      </p:sp>
      <p:sp>
        <p:nvSpPr>
          <p:cNvPr id="969" name="PlaceHolder 2"/>
          <p:cNvSpPr>
            <a:spLocks noGrp="1"/>
          </p:cNvSpPr>
          <p:nvPr>
            <p:ph/>
          </p:nvPr>
        </p:nvSpPr>
        <p:spPr>
          <a:xfrm>
            <a:off x="666720" y="2017800"/>
            <a:ext cx="1101096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准许生产制度</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食品生产加工小作坊应当向所在地的区市场监管局申领《食品生产加工小作坊准许生产证》。</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食品生产加工小作坊应当在准许生产的食品品种范围内从事食品生产加工活动，不得超出准许生产的品种范围生产加工食品。</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准许生产证的有效期为三年。</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58EAC-F989-40AD-9567-F9EA11852C44}"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971"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972"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F17ED-4043-4040-92CB-EC6CD4CA743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73"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76400-3B47-4C7E-9518-51BD35446435}"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974"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975"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2F474-4454-470D-BC7E-DA02CFCC42A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四章 食品生产加工小作坊</a:t>
            </a:r>
            <a:endParaRPr b="0" lang="en-US" sz="4800" spc="-1" strike="noStrike">
              <a:solidFill>
                <a:srgbClr val="000000"/>
              </a:solidFill>
              <a:latin typeface="Calibri Light"/>
            </a:endParaRPr>
          </a:p>
        </p:txBody>
      </p:sp>
      <p:sp>
        <p:nvSpPr>
          <p:cNvPr id="977" name="PlaceHolder 2"/>
          <p:cNvSpPr>
            <a:spLocks noGrp="1"/>
          </p:cNvSpPr>
          <p:nvPr>
            <p:ph/>
          </p:nvPr>
        </p:nvSpPr>
        <p:spPr>
          <a:xfrm>
            <a:off x="666720" y="2017800"/>
            <a:ext cx="1101096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食品生产加工要求</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从业人员持有有效健康证明；</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使用的食品原料、食品添加剂、食品相关产品应当符合食品安全标准；</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待加工食品与直接入口食品、原料与成品应当分开存放，防止交叉污染，避免食品接触有毒物、不洁物；</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使用无毒、无害、清洁的食品包装材料，销售无包装的直接入口食品，应当使用无毒、清洁的售货工具；</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625BF-20C8-4865-8FAC-7690E2390C3C}"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979"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980"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E2739-53A1-42D0-9BCB-8BD6AF86308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81"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A8883-7C1D-44DE-9A52-365EBC0FA535}"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982"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983"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FE495-0700-44EB-805A-A054258A6A2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四章 食品生产加工小作坊</a:t>
            </a:r>
            <a:endParaRPr b="0" lang="en-US" sz="4800" spc="-1" strike="noStrike">
              <a:solidFill>
                <a:srgbClr val="000000"/>
              </a:solidFill>
              <a:latin typeface="Calibri Light"/>
            </a:endParaRPr>
          </a:p>
        </p:txBody>
      </p:sp>
      <p:sp>
        <p:nvSpPr>
          <p:cNvPr id="985" name="PlaceHolder 2"/>
          <p:cNvSpPr>
            <a:spLocks noGrp="1"/>
          </p:cNvSpPr>
          <p:nvPr>
            <p:ph/>
          </p:nvPr>
        </p:nvSpPr>
        <p:spPr>
          <a:xfrm>
            <a:off x="666720" y="2017800"/>
            <a:ext cx="1101096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食品生产加工要求（</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从业人员应当保持个人卫生，生产经营食品时，应当将手洗净，穿戴清洁的工作衣、帽；</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食品生产经营场所与个人生活场所严格分开，食品用具、容器、设备与个人生活用品严格分开；</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用水应当符合国家规定的生活饮用水卫生标准；</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使用的洗涤剂、消毒剂应当对人体安全、无害，杀虫剂、灭鼠剂等应当妥善保管，防止对食品造成污染；</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法律、法规、规章和标准规定的其他要求。</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1AC82-9454-4A55-90B6-486B1B8239D2}"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987"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988"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0700F-0939-4714-A4ED-F3390945013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89"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CE282-71D9-45BF-9EAC-4B1AB9F5D386}"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990"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991"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10974-A9D7-44D2-9EAB-E99D1470597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9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四章 食品生产加工小作坊</a:t>
            </a:r>
            <a:endParaRPr b="0" lang="en-US" sz="4800" spc="-1" strike="noStrike">
              <a:solidFill>
                <a:srgbClr val="000000"/>
              </a:solidFill>
              <a:latin typeface="Calibri Light"/>
            </a:endParaRPr>
          </a:p>
        </p:txBody>
      </p:sp>
      <p:sp>
        <p:nvSpPr>
          <p:cNvPr id="993" name="PlaceHolder 2"/>
          <p:cNvSpPr>
            <a:spLocks noGrp="1"/>
          </p:cNvSpPr>
          <p:nvPr>
            <p:ph/>
          </p:nvPr>
        </p:nvSpPr>
        <p:spPr>
          <a:xfrm>
            <a:off x="666720" y="2017800"/>
            <a:ext cx="1101096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索证索票与销售记录</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如实记录购进食品原料、食品添加剂、食品相关产品的名称、规格、数量、生产批号、生产日期、保质期、供货者名称及联系方式、进货日期等内容，并保留载有相关信息的票据凭证。记录和票据凭证的保存期限不得少于产品保质期满后六个月；没有明确保质期的，保存期限不得少于二年。</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如实记录销售食品的名称、规格、数量、生产日期、购货者名称及联系方式、销售日期等内容。</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74005-3F14-4E50-84C4-EFFEC8143E50}"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995"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996"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ACB51-84A7-4194-9319-52CAA62EEA5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97"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30E60-1CDD-46AB-B2D9-EA27E21176BE}"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998"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999"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47007-CD0F-4CE8-8CF3-941AED3053A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0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四章 食品生产加工小作坊</a:t>
            </a:r>
            <a:endParaRPr b="0" lang="en-US" sz="4800" spc="-1" strike="noStrike">
              <a:solidFill>
                <a:srgbClr val="000000"/>
              </a:solidFill>
              <a:latin typeface="Calibri Light"/>
            </a:endParaRPr>
          </a:p>
        </p:txBody>
      </p:sp>
      <p:sp>
        <p:nvSpPr>
          <p:cNvPr id="1001" name="PlaceHolder 2"/>
          <p:cNvSpPr>
            <a:spLocks noGrp="1"/>
          </p:cNvSpPr>
          <p:nvPr>
            <p:ph/>
          </p:nvPr>
        </p:nvSpPr>
        <p:spPr>
          <a:xfrm>
            <a:off x="666720" y="2017800"/>
            <a:ext cx="1101096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包装标签</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食品名称、生产日期、保质期、贮存条件；</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食品生产加工小作坊的名称、地址、联系方式；</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准许生产证编号；</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成分或者配料表，所使用的食品添加剂在国标中的通用名称。</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预包装食品的，还应当符合食品安全法律、法规、规章和标准对预包装食品标签的要求。</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1D0F8-AA00-46B7-B1BC-F3223B047699}"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003"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004"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E96E9-7A3F-4F18-A945-F0160471382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05"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6C926-BCE4-4946-9A15-78B55B897CC6}"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006"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007"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4E584-DEA4-4108-9B62-1D06CF3F6B7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四章 食品摊贩</a:t>
            </a:r>
            <a:endParaRPr b="0" lang="en-US" sz="4800" spc="-1" strike="noStrike">
              <a:solidFill>
                <a:srgbClr val="000000"/>
              </a:solidFill>
              <a:latin typeface="Calibri Light"/>
            </a:endParaRPr>
          </a:p>
        </p:txBody>
      </p:sp>
      <p:sp>
        <p:nvSpPr>
          <p:cNvPr id="1009" name="PlaceHolder 2"/>
          <p:cNvSpPr>
            <a:spLocks noGrp="1"/>
          </p:cNvSpPr>
          <p:nvPr>
            <p:ph/>
          </p:nvPr>
        </p:nvSpPr>
        <p:spPr>
          <a:xfrm>
            <a:off x="666360" y="2017800"/>
            <a:ext cx="1082052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划定经营场所</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区政府按照方便群众、合理布局的原则，确定相应的固定经营场所，并制定相关鼓励措施，引导食品摊贩进入集中交易市场、店铺等固定场所经营。</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区政府可以根据需要，依法划定临时区域（点）和固定时段供食品摊贩经营，并向社会公布。区和乡、镇或者街道应当为划定的临时区域（点）提供必要的基础设施和配套服务。划定的临时区域（点）和固定时段，不得影响安全、交通、市容环境和周边居民生活。</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9369-6808-47EF-8A21-9BD832DB23FC}"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011"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012"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0278D-4052-4EEB-9861-37DD0E15FDC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13"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25E3D-0993-44D8-B939-C3B4940AEAB7}"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014"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015"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9F03B-AD49-40DE-B1A6-647D40B8FC1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1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四章 食品摊贩</a:t>
            </a:r>
            <a:endParaRPr b="0" lang="en-US" sz="4800" spc="-1" strike="noStrike">
              <a:solidFill>
                <a:srgbClr val="000000"/>
              </a:solidFill>
              <a:latin typeface="Calibri Light"/>
            </a:endParaRPr>
          </a:p>
        </p:txBody>
      </p:sp>
      <p:sp>
        <p:nvSpPr>
          <p:cNvPr id="1017" name="PlaceHolder 2"/>
          <p:cNvSpPr>
            <a:spLocks noGrp="1"/>
          </p:cNvSpPr>
          <p:nvPr>
            <p:ph/>
          </p:nvPr>
        </p:nvSpPr>
        <p:spPr>
          <a:xfrm>
            <a:off x="666360" y="2017800"/>
            <a:ext cx="1082052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临时经营公示卡制度</a:t>
            </a:r>
            <a:endParaRPr b="0" lang="en-US" sz="36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食品摊贩在划定的区域（点）、时段内经营的，应当向经营所在地的乡、镇或者街道登记相关信息。</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乡、镇或者街道向符合条件的食品摊贩发放临时经营公示卡，并将登记信息通报所在地的区市场监督管理、绿化市容、城市管理行政执法等部门。</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7E90F-DF11-4EFA-8D92-E88CFCCDCF7E}"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019"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020"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B17F7-F33D-478E-9EFC-30CB2CE0EDA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21"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2E37D-5511-4AD7-8BAD-AC7D1168F88C}"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022"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023"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56F16-6847-4F5F-98ED-D503315FA79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2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四章 食品摊贩</a:t>
            </a:r>
            <a:endParaRPr b="0" lang="en-US" sz="4800" spc="-1" strike="noStrike">
              <a:solidFill>
                <a:srgbClr val="000000"/>
              </a:solidFill>
              <a:latin typeface="Calibri Light"/>
            </a:endParaRPr>
          </a:p>
        </p:txBody>
      </p:sp>
      <p:sp>
        <p:nvSpPr>
          <p:cNvPr id="1025" name="PlaceHolder 2"/>
          <p:cNvSpPr>
            <a:spLocks noGrp="1"/>
          </p:cNvSpPr>
          <p:nvPr>
            <p:ph/>
          </p:nvPr>
        </p:nvSpPr>
        <p:spPr>
          <a:xfrm>
            <a:off x="666360" y="2017800"/>
            <a:ext cx="1082052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食品摊贩经营的条件：</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摊位与公共厕所、倒粪池、化粪池、污水池、垃圾场（站）等污染源直线距离在二十五米以上；</a:t>
            </a:r>
            <a:endParaRPr b="0" lang="en-US" sz="24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与经营的食品品种、数量相适应的生产、加工、贮存、清洗、消毒、冷藏等设施或者设备；</a:t>
            </a:r>
            <a:endParaRPr b="0" lang="en-US" sz="24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需要在现场对食品或者工具、容器进行清洗的，应当配备具有给排水条件的清洁设施或者设备；</a:t>
            </a:r>
            <a:endParaRPr b="0" lang="en-US" sz="24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配有防雨、防尘、防污染、防虫、防蝇等设施以及加盖或者密闭的废弃物收集容器。</a:t>
            </a:r>
            <a:endParaRPr b="0" lang="en-US" sz="24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禁止食品摊贩在距离幼儿园、中小学校门口一百米范围内设摊经营。</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C6B9D-F110-406C-930F-2E4A4B6DD4A8}"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027"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028"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0E55B-A4D5-4284-BFD9-82066B28A27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29"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CF2F6-8F70-4844-9010-1A35137E0226}"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030"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031"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669BD-D9CB-4725-8707-E6EB93465823}"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3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四章 食品摊贩</a:t>
            </a:r>
            <a:endParaRPr b="0" lang="en-US" sz="4800" spc="-1" strike="noStrike">
              <a:solidFill>
                <a:srgbClr val="000000"/>
              </a:solidFill>
              <a:latin typeface="Calibri Light"/>
            </a:endParaRPr>
          </a:p>
        </p:txBody>
      </p:sp>
      <p:sp>
        <p:nvSpPr>
          <p:cNvPr id="1033" name="PlaceHolder 2"/>
          <p:cNvSpPr>
            <a:spLocks noGrp="1"/>
          </p:cNvSpPr>
          <p:nvPr>
            <p:ph/>
          </p:nvPr>
        </p:nvSpPr>
        <p:spPr>
          <a:xfrm>
            <a:off x="666360" y="2017800"/>
            <a:ext cx="1110636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食品摊贩经营要求：</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持有并公示有效健康证明；</a:t>
            </a:r>
            <a:endParaRPr b="0" lang="en-US" sz="24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悬挂食品摊贩临时经营公示卡，并按照公示卡所载明的事项从事经营活动；</a:t>
            </a:r>
            <a:endParaRPr b="0" lang="en-US" sz="24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不得经营生食水产品等生食类食品以及禁止生产经营的其他食品；</a:t>
            </a:r>
            <a:endParaRPr b="0" lang="en-US" sz="24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使用无毒、无害、清洁的食品包装材料、容器和售货工具；</a:t>
            </a:r>
            <a:endParaRPr b="0" lang="en-US" sz="24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从业人员应当保持个人卫生，将手洗净，穿戴清洁的工作衣、帽；</a:t>
            </a:r>
            <a:endParaRPr b="0" lang="en-US" sz="24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用水应当符合国家规定的生活饮用水卫生标准，使用的洗涤剂、消毒剂应当对人体安全、无害，防止对食品造成污染；</a:t>
            </a:r>
            <a:endParaRPr b="0" lang="en-US" sz="24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法律、法规、规章规定的其他要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F9558-B616-43F8-A6DE-7B36046FDE78}"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461"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462"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E4BE4-8234-4DD7-8A27-6D1607CACF5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63"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7C35B-7C8C-4D1F-ACDD-DD7799BCECE2}"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464"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465"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9A070-0D3C-4047-8222-A3124794A27E}"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6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立法背景</a:t>
            </a:r>
            <a:endParaRPr b="0" lang="en-US" sz="4800" spc="-1" strike="noStrike">
              <a:solidFill>
                <a:srgbClr val="000000"/>
              </a:solidFill>
              <a:latin typeface="Calibri Light"/>
            </a:endParaRPr>
          </a:p>
        </p:txBody>
      </p:sp>
      <p:sp>
        <p:nvSpPr>
          <p:cNvPr id="467" name="PlaceHolder 2"/>
          <p:cNvSpPr>
            <a:spLocks noGrp="1"/>
          </p:cNvSpPr>
          <p:nvPr>
            <p:ph/>
          </p:nvPr>
        </p:nvSpPr>
        <p:spPr>
          <a:xfrm>
            <a:off x="666360" y="2017800"/>
            <a:ext cx="10820520" cy="4338720"/>
          </a:xfrm>
          <a:prstGeom prst="rect">
            <a:avLst/>
          </a:prstGeom>
          <a:noFill/>
          <a:ln w="0">
            <a:noFill/>
          </a:ln>
        </p:spPr>
        <p:txBody>
          <a:bodyPr anchor="t">
            <a:normAutofit/>
          </a:bodyPr>
          <a:p>
            <a:pPr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制定《条例》是贯彻从农田到餐桌实施全过程食品安全监管工作的要求。</a:t>
            </a:r>
            <a:endParaRPr b="0" lang="en-US" sz="32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国家</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农产品质量安全法</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食品安全法</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分别对食用农产品种植养殖和农业投入品以及食品生产经营过程的监管提出法律要求，但“两法”的监管要求、方式不同，衔接存在空隙和交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例</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建立了从“农田到餐桌”全过程监管的法律要求，理顺了监管职责，填补了空隙，实施一体化的监管要求。</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2EAFA-CFA8-4AF2-ABC9-F0857AFADA92}"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035"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036"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97E02-DA18-42AA-A981-DB74C1447F9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37"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0270E-D78F-4924-B7B9-2A511B073ED3}"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038"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039"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EA678-F94F-43F3-A417-6BA57864718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4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四章 食品摊贩</a:t>
            </a:r>
            <a:endParaRPr b="0" lang="en-US" sz="4800" spc="-1" strike="noStrike">
              <a:solidFill>
                <a:srgbClr val="000000"/>
              </a:solidFill>
              <a:latin typeface="Calibri Light"/>
            </a:endParaRPr>
          </a:p>
        </p:txBody>
      </p:sp>
      <p:sp>
        <p:nvSpPr>
          <p:cNvPr id="1041" name="PlaceHolder 2"/>
          <p:cNvSpPr>
            <a:spLocks noGrp="1"/>
          </p:cNvSpPr>
          <p:nvPr>
            <p:ph/>
          </p:nvPr>
        </p:nvSpPr>
        <p:spPr>
          <a:xfrm>
            <a:off x="666360" y="2017800"/>
            <a:ext cx="10820520" cy="433872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索证索票</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食品摊贩应当保留载有所采购的食品、食品添加剂、食品相关产品的票据凭证。票据凭证保存期限不得少于</a:t>
            </a:r>
            <a:r>
              <a:rPr b="1" lang="en-US" sz="2800" spc="-1" strike="noStrike">
                <a:solidFill>
                  <a:srgbClr val="000000"/>
                </a:solidFill>
                <a:latin typeface="楷体_GB2312"/>
                <a:ea typeface="楷体_GB2312"/>
              </a:rPr>
              <a:t>30</a:t>
            </a:r>
            <a:r>
              <a:rPr b="1" lang="zh-CN" sz="2800" spc="-1" strike="noStrike">
                <a:solidFill>
                  <a:srgbClr val="000000"/>
                </a:solidFill>
                <a:latin typeface="楷体_GB2312"/>
                <a:ea typeface="楷体_GB2312"/>
              </a:rPr>
              <a:t>日。</a:t>
            </a:r>
            <a:endParaRPr b="0" lang="en-US" sz="2800" spc="-1" strike="noStrike">
              <a:solidFill>
                <a:srgbClr val="000000"/>
              </a:solidFill>
              <a:latin typeface="Calibri"/>
            </a:endParaRPr>
          </a:p>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监督管理</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区市场监管局负责食品安全监督管理和指导。</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城管负责市容环境卫生监督管理。</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乡、镇和街道办事处应当协调相关部门，对辖区内的食品摊贩进行监督管理，对食品摊贩存在的违法行为依法进行查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B1755-C07A-46FB-AD6D-13D91BAD2736}"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043"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044"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E6BF7-A06B-4430-877D-E1574160AD5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45"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8BBBF-13AF-4BCF-9910-03DA01A28BBD}"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046"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047"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D8B2A-632D-42DE-8D19-6E30E95B84B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4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五章 </a:t>
            </a:r>
            <a:r>
              <a:rPr b="1" lang="zh-CN" sz="4800" spc="-1" strike="noStrike">
                <a:solidFill>
                  <a:srgbClr val="000000"/>
                </a:solidFill>
                <a:latin typeface="Calibri Light"/>
              </a:rPr>
              <a:t>食品安全事故预防与处置</a:t>
            </a:r>
            <a:endParaRPr b="0" lang="en-US" sz="4800" spc="-1" strike="noStrike">
              <a:solidFill>
                <a:srgbClr val="000000"/>
              </a:solidFill>
              <a:latin typeface="Calibri Light"/>
            </a:endParaRPr>
          </a:p>
        </p:txBody>
      </p:sp>
      <p:sp>
        <p:nvSpPr>
          <p:cNvPr id="1049" name="PlaceHolder 2"/>
          <p:cNvSpPr>
            <a:spLocks noGrp="1"/>
          </p:cNvSpPr>
          <p:nvPr>
            <p:ph/>
          </p:nvPr>
        </p:nvSpPr>
        <p:spPr>
          <a:xfrm>
            <a:off x="666360" y="1866600"/>
            <a:ext cx="10991880" cy="448956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食品安全事故的预防</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食品生产经营者应当按照食品安全法律、法规、规章、标准或者技术规范，制定和落实食品安全事故防范措施，及时消除食品安全隐患，防止食物中毒等食品安全事故的发生。</a:t>
            </a:r>
            <a:endParaRPr b="0" lang="en-US" sz="2800" spc="-1" strike="noStrike">
              <a:solidFill>
                <a:srgbClr val="000000"/>
              </a:solidFill>
              <a:latin typeface="Calibri"/>
            </a:endParaRPr>
          </a:p>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食品安全责任保险</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鼓励食品生产经营者参加食品安全责任保险。</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高风险食品生产经营企业应当根据防范食品安全风险的需要，主动投保食品安全责任保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77A27-699C-44F0-A96E-702CBC0E3228}"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051"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052"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1B204-E44B-4C65-964F-22C83E2770C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53"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6A6A3-55B2-4774-AD0F-93AE56A9E13B}"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054"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055"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5C717-CBAC-4A84-8543-836C142EC1F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五章 </a:t>
            </a:r>
            <a:r>
              <a:rPr b="1" lang="zh-CN" sz="4800" spc="-1" strike="noStrike">
                <a:solidFill>
                  <a:srgbClr val="000000"/>
                </a:solidFill>
                <a:latin typeface="Calibri Light"/>
              </a:rPr>
              <a:t>食品安全事故预防与处置</a:t>
            </a:r>
            <a:endParaRPr b="0" lang="en-US" sz="4800" spc="-1" strike="noStrike">
              <a:solidFill>
                <a:srgbClr val="000000"/>
              </a:solidFill>
              <a:latin typeface="Calibri Light"/>
            </a:endParaRPr>
          </a:p>
        </p:txBody>
      </p:sp>
      <p:sp>
        <p:nvSpPr>
          <p:cNvPr id="1057" name="PlaceHolder 2"/>
          <p:cNvSpPr>
            <a:spLocks noGrp="1"/>
          </p:cNvSpPr>
          <p:nvPr>
            <p:ph/>
          </p:nvPr>
        </p:nvSpPr>
        <p:spPr>
          <a:xfrm>
            <a:off x="666360" y="1866600"/>
            <a:ext cx="10991880" cy="448956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0f0a"/>
                </a:solidFill>
                <a:latin typeface="楷体_GB2312"/>
                <a:ea typeface="楷体_GB2312"/>
              </a:rPr>
              <a:t>重大公共活动的保障措施</a:t>
            </a:r>
            <a:endParaRPr b="0" lang="en-US" sz="36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重大公共活动的组织者应当采取有效的保障措施，保证活动期间的食品安全。</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鼓励重大公共活动的组织者聘请社会专业机构提供重大公共活动的食品安全保障服务。</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市食药监、区市场监管、农业等部门应当依法进行指导和监督。</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77273-99DB-4B84-82F8-8412965A8A01}"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059"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060"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4A484-A00C-44B6-97DB-7C7F2BA62E7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61"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F0D5B-71E7-4B64-9669-E0BDD21874C9}"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062"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063"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B6DE4-4CBA-41F4-99BA-A71ACB14992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五章 </a:t>
            </a:r>
            <a:r>
              <a:rPr b="1" lang="zh-CN" sz="4800" spc="-1" strike="noStrike">
                <a:solidFill>
                  <a:srgbClr val="000000"/>
                </a:solidFill>
                <a:latin typeface="Calibri Light"/>
              </a:rPr>
              <a:t>食品安全事故预防与处置</a:t>
            </a:r>
            <a:endParaRPr b="0" lang="en-US" sz="4800" spc="-1" strike="noStrike">
              <a:solidFill>
                <a:srgbClr val="000000"/>
              </a:solidFill>
              <a:latin typeface="Calibri Light"/>
            </a:endParaRPr>
          </a:p>
        </p:txBody>
      </p:sp>
      <p:sp>
        <p:nvSpPr>
          <p:cNvPr id="1065" name="PlaceHolder 2"/>
          <p:cNvSpPr>
            <a:spLocks noGrp="1"/>
          </p:cNvSpPr>
          <p:nvPr>
            <p:ph/>
          </p:nvPr>
        </p:nvSpPr>
        <p:spPr>
          <a:xfrm>
            <a:off x="666360" y="1866600"/>
            <a:ext cx="10991880" cy="448956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0f0a"/>
                </a:solidFill>
                <a:latin typeface="楷体_GB2312"/>
                <a:ea typeface="楷体_GB2312"/>
              </a:rPr>
              <a:t>重大食品安全问题报告</a:t>
            </a:r>
            <a:endParaRPr b="0" lang="en-US" sz="36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食品检验机构接受生产经营者委托对食品、食品相关产品进行检验时，发现存在添加违禁物质、关键性指标异常等重大食品安全问题时，应当及时向市食药监局或者质监局。</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2CF0B-AEED-42A9-AE30-3D9A0AF9239F}"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067"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068"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A4B95-0985-4856-9C3D-2C1E1A3EEEC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69"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00791-B9EA-46B3-9087-2AF988890EF2}"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070"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071"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E9A58-2771-490C-9B39-21AB3D9FD0B3}"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五章 </a:t>
            </a:r>
            <a:r>
              <a:rPr b="1" lang="zh-CN" sz="4800" spc="-1" strike="noStrike">
                <a:solidFill>
                  <a:srgbClr val="000000"/>
                </a:solidFill>
                <a:latin typeface="Calibri Light"/>
              </a:rPr>
              <a:t>食品安全事故预防与处置</a:t>
            </a:r>
            <a:endParaRPr b="0" lang="en-US" sz="4800" spc="-1" strike="noStrike">
              <a:solidFill>
                <a:srgbClr val="000000"/>
              </a:solidFill>
              <a:latin typeface="Calibri Light"/>
            </a:endParaRPr>
          </a:p>
        </p:txBody>
      </p:sp>
      <p:sp>
        <p:nvSpPr>
          <p:cNvPr id="1073" name="PlaceHolder 2"/>
          <p:cNvSpPr>
            <a:spLocks noGrp="1"/>
          </p:cNvSpPr>
          <p:nvPr>
            <p:ph/>
          </p:nvPr>
        </p:nvSpPr>
        <p:spPr>
          <a:xfrm>
            <a:off x="666360" y="1866600"/>
            <a:ext cx="10991880" cy="448956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应急预案</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市、区政府应当根据有关法律、法规的规定和上级人民政府的食品安全事故应急预案以及本行政区域的实际情况，制定本行政区域的食品安全事故应急预案，并报上一级人民政府备案。</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各级人民政府及其相关部门应当按照应急预案的要求，开展食品安全事故应急处置。</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2C005-40FF-435C-862E-D4557BB0A032}"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075"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076"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CA756-047C-4635-92C4-17C93918158A}"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77"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E2115-0D15-4C17-9E2F-B0F8AE80106E}"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078"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079"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42ED8-14D0-4B9A-B01C-9994F0C3379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五章 </a:t>
            </a:r>
            <a:r>
              <a:rPr b="1" lang="zh-CN" sz="4800" spc="-1" strike="noStrike">
                <a:solidFill>
                  <a:srgbClr val="000000"/>
                </a:solidFill>
                <a:latin typeface="Calibri Light"/>
              </a:rPr>
              <a:t>食品安全事故预防与处置</a:t>
            </a:r>
            <a:endParaRPr b="0" lang="en-US" sz="4800" spc="-1" strike="noStrike">
              <a:solidFill>
                <a:srgbClr val="000000"/>
              </a:solidFill>
              <a:latin typeface="Calibri Light"/>
            </a:endParaRPr>
          </a:p>
        </p:txBody>
      </p:sp>
      <p:sp>
        <p:nvSpPr>
          <p:cNvPr id="1081" name="PlaceHolder 2"/>
          <p:cNvSpPr>
            <a:spLocks noGrp="1"/>
          </p:cNvSpPr>
          <p:nvPr>
            <p:ph/>
          </p:nvPr>
        </p:nvSpPr>
        <p:spPr>
          <a:xfrm>
            <a:off x="666360" y="1866600"/>
            <a:ext cx="10991880" cy="448956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事故的控制</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事故发生单位应当立即对导致或者可能导致食品安全事故的食品及原料、工具、设备等采取封存等控制措施，防止事故扩大。</a:t>
            </a:r>
            <a:endParaRPr b="0" lang="en-US" sz="2800" spc="-1" strike="noStrike">
              <a:solidFill>
                <a:srgbClr val="000000"/>
              </a:solidFill>
              <a:latin typeface="Calibri"/>
            </a:endParaRPr>
          </a:p>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事故的报告</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法定报告人：事故发生单位、接收病人的医疗单位和监管部门；</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报告期限和途径：事故发生或者接收病人后两小时内，向所在地的区市场监管局、卫计委报告；接到报告的区市场监管局应当按照应急预案的规定，向区政府、市食药监局报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97DC-7CA3-4C64-990E-C33C104B5F15}"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083"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084"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5F29-447B-471C-B312-387E963CBC5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85"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DE10E-441A-43B1-8F98-564ECEA1B596}"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086"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087"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87D31-171D-491F-8150-A94264E0EA13}"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8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五章 </a:t>
            </a:r>
            <a:r>
              <a:rPr b="1" lang="zh-CN" sz="4800" spc="-1" strike="noStrike">
                <a:solidFill>
                  <a:srgbClr val="000000"/>
                </a:solidFill>
                <a:latin typeface="Calibri Light"/>
              </a:rPr>
              <a:t>食品安全事故预防与处置</a:t>
            </a:r>
            <a:endParaRPr b="0" lang="en-US" sz="4800" spc="-1" strike="noStrike">
              <a:solidFill>
                <a:srgbClr val="000000"/>
              </a:solidFill>
              <a:latin typeface="Calibri Light"/>
            </a:endParaRPr>
          </a:p>
        </p:txBody>
      </p:sp>
      <p:sp>
        <p:nvSpPr>
          <p:cNvPr id="1089" name="PlaceHolder 2"/>
          <p:cNvSpPr>
            <a:spLocks noGrp="1"/>
          </p:cNvSpPr>
          <p:nvPr>
            <p:ph/>
          </p:nvPr>
        </p:nvSpPr>
        <p:spPr>
          <a:xfrm>
            <a:off x="666360" y="1866600"/>
            <a:ext cx="10991880" cy="448956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调查处理</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食药监、市场监管部门接到食品安全事故报告后，应当立即会同卫计、质监、农业等部门进行调查处理，依法采取措施，防止或者减轻社会危害。</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疾病预防控制机构接到通知后，对事故现场采取卫生处理等措施，并开展流行病学调查；食药监、市场监管、卫计、公安等部门应当依法予以协助；</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疾病预防控制机构应当向食药监、市场监管、卫计部门提交流行病学调查报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EF665-88FD-407E-B921-DFB272EAEA31}"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091"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092"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D6B4-4801-4C8F-8B7B-AFD3A4A35893}"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93"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D1D6A-58F9-499E-9F2D-3C72DBF53346}"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094"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095"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ABFC2-0578-4EEB-874F-A04569882DD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9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六章 监督管理</a:t>
            </a:r>
            <a:endParaRPr b="0" lang="en-US" sz="4800" spc="-1" strike="noStrike">
              <a:solidFill>
                <a:srgbClr val="000000"/>
              </a:solidFill>
              <a:latin typeface="Calibri Light"/>
            </a:endParaRPr>
          </a:p>
        </p:txBody>
      </p:sp>
      <p:sp>
        <p:nvSpPr>
          <p:cNvPr id="1097" name="PlaceHolder 2"/>
          <p:cNvSpPr>
            <a:spLocks noGrp="1"/>
          </p:cNvSpPr>
          <p:nvPr>
            <p:ph/>
          </p:nvPr>
        </p:nvSpPr>
        <p:spPr>
          <a:xfrm>
            <a:off x="666360" y="1866600"/>
            <a:ext cx="10991880" cy="448956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监管计划</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市、区政府应当按照国家有关规定，组织本级食药监、市场监管、质监、农业等部门制定本行政区域的食品安全年度监督管理计划，明确监督管理重点，向社会公布并组织实施。</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食药监、市场监管、质监、农业等部门应当根据食品安全风险监测和风险评估结果、食品安全状况、食品安全年度监督管理计划等，确定监督管理的重点、方式和频次，实施风险分级管理；</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对消费量较大、风险较高的食品以及专供婴幼儿和其他特定人群的主辅食品，应当进行重点抽样检验。</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DA9C5-B0CA-4F64-B65B-5A5BFE20744C}"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099"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100"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43743-B67A-4248-BB73-006DC88B736E}"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01"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107D6-210E-43FC-89D8-6902896A4ED3}"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102"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103"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E7E75-A976-4AF1-A418-F6F5EFD76D1E}"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0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六章 监督管理</a:t>
            </a:r>
            <a:endParaRPr b="0" lang="en-US" sz="4800" spc="-1" strike="noStrike">
              <a:solidFill>
                <a:srgbClr val="000000"/>
              </a:solidFill>
              <a:latin typeface="Calibri Light"/>
            </a:endParaRPr>
          </a:p>
        </p:txBody>
      </p:sp>
      <p:sp>
        <p:nvSpPr>
          <p:cNvPr id="1105" name="PlaceHolder 2"/>
          <p:cNvSpPr>
            <a:spLocks noGrp="1"/>
          </p:cNvSpPr>
          <p:nvPr>
            <p:ph/>
          </p:nvPr>
        </p:nvSpPr>
        <p:spPr>
          <a:xfrm>
            <a:off x="666360" y="1866600"/>
            <a:ext cx="10991880" cy="448956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日常监督管理</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食药监、市场监管、质监、农业等部门应当加强执法队伍建设，采取多种措施，加强现场巡查和日常监管，对高风险企业进行重点监管，及时发现处理违反食品安全法律、法规、规章的行为。</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食品生产经营者应当配合相关部门进行监督检查，如实提供有关合同、票据、账簿、电子数据以及其他有关资料。</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食药监、市场监管、质监、农业等部门应当如实记录监督检查情况，并向社会公布监督检查结果。</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2CAAD-9488-4551-AA82-B407AAA31D0D}"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107"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108"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2E69-3DF5-4339-BE6C-B67CB158BDF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09"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A95C-67DE-46CB-ABA2-8BDE38D70958}"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110"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111"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96CA7-A174-40CC-94F2-50934032856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六章 监督管理</a:t>
            </a:r>
            <a:endParaRPr b="0" lang="en-US" sz="4800" spc="-1" strike="noStrike">
              <a:solidFill>
                <a:srgbClr val="000000"/>
              </a:solidFill>
              <a:latin typeface="Calibri Light"/>
            </a:endParaRPr>
          </a:p>
        </p:txBody>
      </p:sp>
      <p:sp>
        <p:nvSpPr>
          <p:cNvPr id="1113" name="PlaceHolder 2"/>
          <p:cNvSpPr>
            <a:spLocks noGrp="1"/>
          </p:cNvSpPr>
          <p:nvPr>
            <p:ph/>
          </p:nvPr>
        </p:nvSpPr>
        <p:spPr>
          <a:xfrm>
            <a:off x="666360" y="1866600"/>
            <a:ext cx="10991880" cy="448956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科技监管手段</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食药监、市场监管、质监、农业等部门可以利用大数据处理等现代科技手段，对食品生产经营活动实施监管；</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依法收集的视听资料、电子数据等，可以作为认定食品安全违法行为的证据。</a:t>
            </a:r>
            <a:endParaRPr b="0" lang="en-US" sz="2800" spc="-1" strike="noStrike">
              <a:solidFill>
                <a:srgbClr val="000000"/>
              </a:solidFill>
              <a:latin typeface="Calibri"/>
            </a:endParaRPr>
          </a:p>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监管信息相互通报</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食药监、市场监管、质监部门在监督管理工作中发现食品相关产品存在安全隐患、可能影响食品安全的，应当及时相互通报有关信息，并按照各自职责，依法进行处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5493F-D6B8-4EF7-A20D-6AF15CBCFE97}"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469"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470"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6AC89-5756-4745-9F09-12F865572AD3}"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71"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40FD8-6F9F-487D-AC3E-BDBC65817797}"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472"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473"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A700F-091F-480A-A209-1875C25B7DAA}"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74" name="PlaceHolder 1"/>
          <p:cNvSpPr>
            <a:spLocks noGrp="1"/>
          </p:cNvSpPr>
          <p:nvPr>
            <p:ph type="title"/>
          </p:nvPr>
        </p:nvSpPr>
        <p:spPr>
          <a:xfrm>
            <a:off x="952560" y="21938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二、条例的框架结构</a:t>
            </a:r>
            <a:endParaRPr b="0" lang="en-US" sz="48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ABD35-3517-47AC-8B39-6D207785719B}"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115"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116"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6DD7C-0C20-431C-8F19-C4BF4848DAD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17"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70663-3D68-4359-89DA-2DA5550BF2DF}"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118"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119"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CF4BF-BECC-47B7-9768-32951958F00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2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六章 监督管理</a:t>
            </a:r>
            <a:endParaRPr b="0" lang="en-US" sz="4800" spc="-1" strike="noStrike">
              <a:solidFill>
                <a:srgbClr val="000000"/>
              </a:solidFill>
              <a:latin typeface="Calibri Light"/>
            </a:endParaRPr>
          </a:p>
        </p:txBody>
      </p:sp>
      <p:sp>
        <p:nvSpPr>
          <p:cNvPr id="1121" name="PlaceHolder 2"/>
          <p:cNvSpPr>
            <a:spLocks noGrp="1"/>
          </p:cNvSpPr>
          <p:nvPr>
            <p:ph/>
          </p:nvPr>
        </p:nvSpPr>
        <p:spPr>
          <a:xfrm>
            <a:off x="666360" y="1866600"/>
            <a:ext cx="10991880" cy="448956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0f0a"/>
                </a:solidFill>
                <a:latin typeface="楷体_GB2312"/>
                <a:ea typeface="楷体_GB2312"/>
              </a:rPr>
              <a:t>监管信息档案</a:t>
            </a:r>
            <a:endParaRPr b="0" lang="en-US" sz="36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食药监、市场监管部门应当建立食品生产经营者、网络食品交易第三方平台提供者食品安全信用档案；</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食品安全信用档案记录许可和备案、日常监督检查结果、违法行为查处等情况，向社会公布并实时更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FC34E-AAC0-4906-AB18-336F046F45F3}"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123"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124"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CE06A-71C0-49BB-ADF2-CF7B8232818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25"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E7380-1AAE-464C-81E1-F5EDEEA0DEFE}"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126"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127"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39BE5-6633-4728-B215-9B56214F995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2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六章 监督管理</a:t>
            </a:r>
            <a:endParaRPr b="0" lang="en-US" sz="4800" spc="-1" strike="noStrike">
              <a:solidFill>
                <a:srgbClr val="000000"/>
              </a:solidFill>
              <a:latin typeface="Calibri Light"/>
            </a:endParaRPr>
          </a:p>
        </p:txBody>
      </p:sp>
      <p:sp>
        <p:nvSpPr>
          <p:cNvPr id="1129" name="PlaceHolder 2"/>
          <p:cNvSpPr>
            <a:spLocks noGrp="1"/>
          </p:cNvSpPr>
          <p:nvPr>
            <p:ph/>
          </p:nvPr>
        </p:nvSpPr>
        <p:spPr>
          <a:xfrm>
            <a:off x="666360" y="1866600"/>
            <a:ext cx="10991880" cy="448956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信用等级评定</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食药监、市场监管部门根据食品生产经营者、网络食品交易第三方平台提供者食品安全信用档案记录情况以及</a:t>
            </a:r>
            <a:r>
              <a:rPr b="1" lang="en-US" sz="2800" spc="-1" strike="noStrike">
                <a:solidFill>
                  <a:srgbClr val="ea0f0a"/>
                </a:solidFill>
                <a:latin typeface="楷体_GB2312"/>
                <a:ea typeface="楷体_GB2312"/>
              </a:rPr>
              <a:t>GMP</a:t>
            </a:r>
            <a:r>
              <a:rPr b="1" lang="zh-CN" sz="2800" spc="-1" strike="noStrike">
                <a:solidFill>
                  <a:srgbClr val="ea0f0a"/>
                </a:solidFill>
                <a:latin typeface="楷体_GB2312"/>
                <a:ea typeface="楷体_GB2312"/>
              </a:rPr>
              <a:t>、</a:t>
            </a:r>
            <a:r>
              <a:rPr b="1" lang="en-US" sz="2800" spc="-1" strike="noStrike">
                <a:solidFill>
                  <a:srgbClr val="ea0f0a"/>
                </a:solidFill>
                <a:latin typeface="楷体_GB2312"/>
                <a:ea typeface="楷体_GB2312"/>
              </a:rPr>
              <a:t>HACCP</a:t>
            </a:r>
            <a:r>
              <a:rPr b="1" lang="zh-CN" sz="2800" spc="-1" strike="noStrike">
                <a:solidFill>
                  <a:srgbClr val="ea0f0a"/>
                </a:solidFill>
                <a:latin typeface="楷体_GB2312"/>
                <a:ea typeface="楷体_GB2312"/>
              </a:rPr>
              <a:t>体系实施情况，进行食品安全信用等级评定，作为分类监理的依据；</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对不良信用记录或者信用等级较低的，应当增加监督检查频次；</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对违法行为情节严重的，将其有关信息纳入本市相关信用信息平台，并由相关部门按照规定在日常监管、行政许可、享受政策扶持、政府采购等方面实施相应的惩戒措施。</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6C2AD-942C-4227-9E34-D6AA5318B336}"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131"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132"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4BC4B-C327-4B2E-A84E-81C7FEA90A43}"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33"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72A3F-0AD8-48D2-AD2B-C63414430AF7}"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134"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135"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E08BF-2F20-4E22-8B06-E4E4E89907A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3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六章 监督管理</a:t>
            </a:r>
            <a:endParaRPr b="0" lang="en-US" sz="4800" spc="-1" strike="noStrike">
              <a:solidFill>
                <a:srgbClr val="000000"/>
              </a:solidFill>
              <a:latin typeface="Calibri Light"/>
            </a:endParaRPr>
          </a:p>
        </p:txBody>
      </p:sp>
      <p:sp>
        <p:nvSpPr>
          <p:cNvPr id="1137" name="PlaceHolder 2"/>
          <p:cNvSpPr>
            <a:spLocks noGrp="1"/>
          </p:cNvSpPr>
          <p:nvPr>
            <p:ph/>
          </p:nvPr>
        </p:nvSpPr>
        <p:spPr>
          <a:xfrm>
            <a:off x="666360" y="1866600"/>
            <a:ext cx="10991880" cy="448956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0f0a"/>
                </a:solidFill>
                <a:latin typeface="楷体_GB2312"/>
                <a:ea typeface="楷体_GB2312"/>
              </a:rPr>
              <a:t>量化分级管理制度</a:t>
            </a:r>
            <a:endParaRPr b="0" lang="en-US" sz="36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本市建立餐饮服务食品安全量化分级管理制度；</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评定结果应当向社会公布，并由餐饮服务提供者在经营场所显著位置公示。</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评定的具体办法由市食品药品监督管理部门制定。</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03BC2-71BB-4CD2-B8F8-8DD5B5640FA0}"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139"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140"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63F9A-807E-4B2C-BED9-98EE269A26F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41"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350C3-1DA4-460B-8F6B-F146C262910A}"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142"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143"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05BB5-6E7C-4419-BE7B-03C81BAC4B2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六章 监督管理</a:t>
            </a:r>
            <a:endParaRPr b="0" lang="en-US" sz="4800" spc="-1" strike="noStrike">
              <a:solidFill>
                <a:srgbClr val="000000"/>
              </a:solidFill>
              <a:latin typeface="Calibri Light"/>
            </a:endParaRPr>
          </a:p>
        </p:txBody>
      </p:sp>
      <p:sp>
        <p:nvSpPr>
          <p:cNvPr id="1145" name="PlaceHolder 2"/>
          <p:cNvSpPr>
            <a:spLocks noGrp="1"/>
          </p:cNvSpPr>
          <p:nvPr>
            <p:ph/>
          </p:nvPr>
        </p:nvSpPr>
        <p:spPr>
          <a:xfrm>
            <a:off x="666360" y="1866600"/>
            <a:ext cx="10991880" cy="448956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食品安全信息追溯制度</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本市建立食品安全信息追溯制度。根据食品安全风险状况，对重点监督管理的食品和食用农产品实施信息追溯管理。</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市食药监局在整合有关食品和食用农产品信息追溯系统的基础上，建立全市统一的食品安全信息追溯平台。</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有关食品和食用农产品生产经营者应当按照规定，向统一的食品安全信息追溯平台报送相关信息。</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BC009-D6B8-4897-8DF3-3857EC2CD5DC}"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147"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148"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4D30E-08DE-4003-B7D1-14F30A11B26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49"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9EC26-8D8E-40B8-B688-03B204E57835}"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150"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151"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0EA31-88B6-4521-8722-FD7F7FFA96F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六章 监督管理</a:t>
            </a:r>
            <a:endParaRPr b="0" lang="en-US" sz="4800" spc="-1" strike="noStrike">
              <a:solidFill>
                <a:srgbClr val="000000"/>
              </a:solidFill>
              <a:latin typeface="Calibri Light"/>
            </a:endParaRPr>
          </a:p>
        </p:txBody>
      </p:sp>
      <p:sp>
        <p:nvSpPr>
          <p:cNvPr id="1153" name="PlaceHolder 2"/>
          <p:cNvSpPr>
            <a:spLocks noGrp="1"/>
          </p:cNvSpPr>
          <p:nvPr>
            <p:ph/>
          </p:nvPr>
        </p:nvSpPr>
        <p:spPr>
          <a:xfrm>
            <a:off x="666360" y="1866600"/>
            <a:ext cx="10991880" cy="448956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恢复生产报告制度</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取得食品、食品添加剂、食品相关产品生产许可的生产企业、取得准许生产证的食品生产加工小作坊以及取得食品经营许可的经营企业，在相关许可有效期内连续停止生产经营一年以上的，在恢复生产经营之前，应当向所在地的区市场监管部门报告。</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区市场监管部门接到报告后，应当对相关生产经营企业或者食品生产加工小作坊的生产经营条件进行核查，对不符合生产经营要求的，应当责令其采取整改措施；经整改达到生产经营要求的，方可恢复生产经营。</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0CE98-6410-436F-9411-5967CFEDE546}"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155"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156"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E9FA1-4338-44B7-A447-B61096A7026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57"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53F18-3DFC-4B38-B21C-5AABFBDEF095}"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158"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159"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2701B-277F-437D-A886-12D461D15131}"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六章 监督管理</a:t>
            </a:r>
            <a:endParaRPr b="0" lang="en-US" sz="4800" spc="-1" strike="noStrike">
              <a:solidFill>
                <a:srgbClr val="000000"/>
              </a:solidFill>
              <a:latin typeface="Calibri Light"/>
            </a:endParaRPr>
          </a:p>
        </p:txBody>
      </p:sp>
      <p:sp>
        <p:nvSpPr>
          <p:cNvPr id="1161" name="PlaceHolder 2"/>
          <p:cNvSpPr>
            <a:spLocks noGrp="1"/>
          </p:cNvSpPr>
          <p:nvPr>
            <p:ph/>
          </p:nvPr>
        </p:nvSpPr>
        <p:spPr>
          <a:xfrm>
            <a:off x="666360" y="1866600"/>
            <a:ext cx="10991880" cy="448956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无证生产经营的查处</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责任主体：食药监、质监、市场监管等部门应当按照各自职责，对未依法取得相关许可证件或者未依法进行临时备案、信息登记，从事无证生产经营行为进行查处。乡、镇和街道应当协调相关部门做好对辖区内无证生产经营行为的查处工作。</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联合惩戒：对无证生产经营的单位和个人以及明知其无证、仍为其提供生产经营场所或者其他条件的单位和个人，除依法进行处理外，将其有关信息纳入本市公共信用信息平台，由相关部门按照规定实施相应惩戒措施。</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48223-7FF4-41D4-891C-ADC3AEB103DF}"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163"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164"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AD345-4C5B-48DD-8EB3-D68A44BE7CF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65"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21583-3173-41C8-ADD7-7CB8DA36A068}"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166"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167"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EECED-FAFC-4247-9143-72DCC2BA5D01}"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六章 监督管理</a:t>
            </a:r>
            <a:endParaRPr b="0" lang="en-US" sz="4800" spc="-1" strike="noStrike">
              <a:solidFill>
                <a:srgbClr val="000000"/>
              </a:solidFill>
              <a:latin typeface="Calibri Light"/>
            </a:endParaRPr>
          </a:p>
        </p:txBody>
      </p:sp>
      <p:sp>
        <p:nvSpPr>
          <p:cNvPr id="1169" name="PlaceHolder 2"/>
          <p:cNvSpPr>
            <a:spLocks noGrp="1"/>
          </p:cNvSpPr>
          <p:nvPr>
            <p:ph/>
          </p:nvPr>
        </p:nvSpPr>
        <p:spPr>
          <a:xfrm>
            <a:off x="666360" y="1866600"/>
            <a:ext cx="10991880" cy="4489560"/>
          </a:xfrm>
          <a:prstGeom prst="rect">
            <a:avLst/>
          </a:prstGeom>
          <a:noFill/>
          <a:ln w="0">
            <a:noFill/>
          </a:ln>
        </p:spPr>
        <p:txBody>
          <a:bodyPr anchor="t">
            <a:normAutofit/>
          </a:bodyPr>
          <a:p>
            <a:pPr marL="2286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0f0a"/>
                </a:solidFill>
                <a:latin typeface="楷体_GB2312"/>
                <a:ea typeface="楷体_GB2312"/>
              </a:rPr>
              <a:t>城市网格化管理</a:t>
            </a:r>
            <a:endParaRPr b="0" lang="en-US" sz="32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本市将无证生产经营行为、食品摊贩违法经营、餐饮油烟污染、餐厨废弃油脂非法处置等食品安全事件纳入城市网格化管理。</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区和乡、镇、街道所属的城市网格化管理机构对巡查发现的食品安全事件，应当进行派单调度、督办核查，指挥协调相关部门或者派出机构及时予以处置。</a:t>
            </a:r>
            <a:endParaRPr b="0" lang="en-US" sz="2800" spc="-1" strike="noStrike">
              <a:solidFill>
                <a:srgbClr val="000000"/>
              </a:solidFill>
              <a:latin typeface="Calibri"/>
            </a:endParaRPr>
          </a:p>
          <a:p>
            <a:pPr lvl="1" marL="685800" indent="-228600">
              <a:lnSpc>
                <a:spcPct val="110000"/>
              </a:lnSpc>
              <a:spcBef>
                <a:spcPts val="601"/>
              </a:spcBef>
              <a:buClr>
                <a:srgbClr val="ea0f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0f0a"/>
                </a:solidFill>
                <a:latin typeface="楷体_GB2312"/>
                <a:ea typeface="楷体_GB2312"/>
              </a:rPr>
              <a:t>区市场监管、城管、环保等部门及其派出机构应当接受城市网格化管理机构的派单调度，及时反馈处置情况，并接受督办核查。</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11FB3-E799-444B-B7AD-F2972CC57CFA}"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171"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172"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BAA1D-F5EC-4808-ACD5-81165C98056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73"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F53E7-5C88-4203-8758-A3963C5B9E4C}"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174"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175"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720FD-7D75-426D-A5F5-761FB7D714A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六章 监督管理</a:t>
            </a:r>
            <a:endParaRPr b="0" lang="en-US" sz="4800" spc="-1" strike="noStrike">
              <a:solidFill>
                <a:srgbClr val="000000"/>
              </a:solidFill>
              <a:latin typeface="Calibri Light"/>
            </a:endParaRPr>
          </a:p>
        </p:txBody>
      </p:sp>
      <p:sp>
        <p:nvSpPr>
          <p:cNvPr id="1177" name="PlaceHolder 2"/>
          <p:cNvSpPr>
            <a:spLocks noGrp="1"/>
          </p:cNvSpPr>
          <p:nvPr>
            <p:ph/>
          </p:nvPr>
        </p:nvSpPr>
        <p:spPr>
          <a:xfrm>
            <a:off x="666360" y="1866600"/>
            <a:ext cx="10991880" cy="448956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投诉、举报处理</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本市设立食品安全统一举报电话，并向社会公布。</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任何组织或者个人发现食品生产经营中的违法行为可以向统一举报电话投诉、举报，也可以向食药监、市场监管、质监、农业等部门投诉、举报。</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食药监、市场监管、质监、农业等部门接到咨询、投诉、举报，对属于本部门职责的，应当受理并在法定期限内及时答复、核实、处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C2D72-ECC7-4DAC-A07C-606459EA956F}"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179"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180"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41EFF-1A0F-4956-9A24-258F1F0B4AF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81"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05511-A2F8-456F-8EA2-704BFCC58FB1}"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182"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183"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F4036-448F-4CB2-A877-EE691CF8CB7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六章 监督管理</a:t>
            </a:r>
            <a:endParaRPr b="0" lang="en-US" sz="4800" spc="-1" strike="noStrike">
              <a:solidFill>
                <a:srgbClr val="000000"/>
              </a:solidFill>
              <a:latin typeface="Calibri Light"/>
            </a:endParaRPr>
          </a:p>
        </p:txBody>
      </p:sp>
      <p:sp>
        <p:nvSpPr>
          <p:cNvPr id="1185" name="PlaceHolder 2"/>
          <p:cNvSpPr>
            <a:spLocks noGrp="1"/>
          </p:cNvSpPr>
          <p:nvPr>
            <p:ph/>
          </p:nvPr>
        </p:nvSpPr>
        <p:spPr>
          <a:xfrm>
            <a:off x="666360" y="1866600"/>
            <a:ext cx="10991880" cy="448956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投诉、举报处理（</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对不属于本部门职责的，应当在两个工作日内移交有权处理的部门，并书面通知咨询、投诉、举报人。有权处理的部门应当在法定期限内及时处理，不得推诿；</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属于食品安全事故的，应当依法进行处置。</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应当对举报人的信息予以保密，保护举报人的合法权益；</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对举报经查证属实、为查处食品安全违法案件提供线索和证据的举报人，按照有关规定给予奖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AA662-D652-4570-AF87-58CA7DB5148D}"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187"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188"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F84C0-1065-41A6-9FF8-1189A7A64A6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89" name="Date Placeholder 3"/>
          <p:cNvSpPr/>
          <p:nvPr/>
        </p:nvSpPr>
        <p:spPr>
          <a:xfrm>
            <a:off x="838080" y="6356520"/>
            <a:ext cx="3276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532F8-5F71-4D25-80C7-4FD3692C90D3}"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1190" name="Footer Placeholder 4"/>
          <p:cNvSpPr/>
          <p:nvPr/>
        </p:nvSpPr>
        <p:spPr>
          <a:xfrm>
            <a:off x="4648320" y="635652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上海市食品药品监督管理局</a:t>
            </a:r>
            <a:endParaRPr b="0" lang="en-US" sz="1200" spc="-1" strike="noStrike">
              <a:solidFill>
                <a:srgbClr val="000000"/>
              </a:solidFill>
              <a:latin typeface="Calibri"/>
            </a:endParaRPr>
          </a:p>
        </p:txBody>
      </p:sp>
      <p:sp>
        <p:nvSpPr>
          <p:cNvPr id="1191" name="Slide Number Placeholder 5"/>
          <p:cNvSpPr/>
          <p:nvPr/>
        </p:nvSpPr>
        <p:spPr>
          <a:xfrm>
            <a:off x="8077320" y="6356520"/>
            <a:ext cx="3276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A7B07-A8E2-452F-86F8-98A04853C6D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9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第六章 监督管理</a:t>
            </a:r>
            <a:endParaRPr b="0" lang="en-US" sz="4800" spc="-1" strike="noStrike">
              <a:solidFill>
                <a:srgbClr val="000000"/>
              </a:solidFill>
              <a:latin typeface="Calibri Light"/>
            </a:endParaRPr>
          </a:p>
        </p:txBody>
      </p:sp>
      <p:sp>
        <p:nvSpPr>
          <p:cNvPr id="1193" name="PlaceHolder 2"/>
          <p:cNvSpPr>
            <a:spLocks noGrp="1"/>
          </p:cNvSpPr>
          <p:nvPr>
            <p:ph/>
          </p:nvPr>
        </p:nvSpPr>
        <p:spPr>
          <a:xfrm>
            <a:off x="666360" y="1866600"/>
            <a:ext cx="10991880" cy="4489560"/>
          </a:xfrm>
          <a:prstGeom prst="rect">
            <a:avLst/>
          </a:prstGeom>
          <a:noFill/>
          <a:ln w="0">
            <a:noFill/>
          </a:ln>
        </p:spPr>
        <p:txBody>
          <a:bodyPr anchor="t">
            <a:normAutofit/>
          </a:bodyPr>
          <a:p>
            <a:pPr marL="2286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食品安全信息统一公布制度</a:t>
            </a:r>
            <a:endParaRPr b="0" lang="en-US" sz="32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本市建立食品安全信息统一公布制度，通过统一的信息平台，公布下列食品安全信息：</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本市食品安全总体情况；</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本市食品安全风险评估信息和食品安全风险警示信息；</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本市重大食品安全事故及其处理信息；</a:t>
            </a:r>
            <a:endParaRPr b="0" lang="en-US" sz="28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市政府确定需要统一公布的其他重要食品安全信息。</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boornet</dc:creator>
  <dc:description/>
  <dc:language>en-US</dc:language>
  <cp:lastModifiedBy>GZH</cp:lastModifiedBy>
  <cp:lastPrinted>2015-07-29T09:18:03Z</cp:lastPrinted>
  <dcterms:modified xsi:type="dcterms:W3CDTF">2017-03-15T22:52:31Z</dcterms:modified>
  <cp:revision>228</cp:revision>
  <dc:subject/>
  <dc:title>PowerPoint Presentation</dc:title>
</cp:coreProperties>
</file>